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BB443-7A1D-48E8-8FA7-62B25265A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9845A-48C6-4F66-9C43-0CB66400F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6A5D6-BC2B-479D-BB42-85B66172E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89F22-0F02-4C65-AED7-774FA77D1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B0871-C664-4216-AD4D-95AA8357B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95192-46AC-4E57-B03B-094A66E1A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E9B6C-3BFA-4CE2-BDDA-AF6392221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F0FB7-00A3-43EC-9D06-8EEA661D6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CFB10-9691-488E-AF6D-5D03B905A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8819A-C085-4D96-BF1C-48FE3BE46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246E8-3690-4A97-93DF-599630F96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071A7-52F2-47D1-94C9-8770EA21C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EA6C2-44F9-4FE1-A8A6-86CBF72FE1AE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1A5C2-145D-4D78-91CF-CDB5AA0229A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550440"/>
            <a:ext cx="9144000" cy="2801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Calibri Light"/>
              </a:rPr>
              <a:t>Математический анализ</a:t>
            </a:r>
            <a:endParaRPr b="0" lang="en-US" sz="8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4844880"/>
            <a:ext cx="91440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абанов Александр Николаевич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.ф.-м.н., доцент кафедры кибернетик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Дифференцирование обратной функции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Теорема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 производной обратной функции: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Пусть функции      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: X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Y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ru-RU" sz="2800" spc="-1" strike="noStrike" baseline="30000">
                <a:solidFill>
                  <a:srgbClr val="000000"/>
                </a:solidFill>
                <a:latin typeface="Calibri"/>
              </a:rPr>
              <a:t>–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 Y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X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заимно обратны и непрерывны в точках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X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y = f(x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Y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соответственно. Если функция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) дифференцируема в точке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’(x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0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то функция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ru-RU" sz="2800" spc="-1" strike="noStrike" baseline="30000">
                <a:solidFill>
                  <a:srgbClr val="000000"/>
                </a:solidFill>
                <a:latin typeface="Calibri"/>
              </a:rPr>
              <a:t>–1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такж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ифференцируема в точке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y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причем (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ru-RU" sz="2800" spc="-1" strike="noStrike" baseline="30000">
                <a:solidFill>
                  <a:srgbClr val="000000"/>
                </a:solidFill>
                <a:latin typeface="Calibri"/>
              </a:rPr>
              <a:t>–1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’ (y) = (f’(x))</a:t>
            </a:r>
            <a:r>
              <a:rPr b="0" lang="ru-RU" sz="2800" spc="-1" strike="noStrike" baseline="30000">
                <a:solidFill>
                  <a:srgbClr val="000000"/>
                </a:solidFill>
                <a:latin typeface="Calibri"/>
              </a:rPr>
              <a:t>–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Номер слайда 3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9D9BE-1869-4066-9408-3EF90823204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Таблица производных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спользуя определение производной и правила дифференцирования, можно получить формулы для производных основных элементарных функций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’ = n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n – 1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частности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x)’ = 1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’ =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lna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частности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’ = 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x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частности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sin x)’ = cosx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cos x)’ = –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n x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Номер слайда 3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72B11-2C75-41AD-8022-9FAA11DDD88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Объект 5"/>
              <p:cNvSpPr txBox="1"/>
              <p:nvPr/>
            </p:nvSpPr>
            <p:spPr>
              <a:xfrm>
                <a:off x="6405480" y="3313080"/>
                <a:ext cx="4048200" cy="106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x</m:t>
                        </m:r>
                      </m:e>
                    </m:rad>
                    <m:r>
                      <m:t xml:space="preserve">)</m:t>
                    </m:r>
                    <m:r>
                      <m:t xml:space="preserve">'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x</m:t>
                            </m:r>
                          </m:e>
                        </m:rad>
                      </m:den>
                    </m:f>
                    <m:r>
                      <m:rPr>
                        <m:lit/>
                        <m:nor/>
                      </m:rPr>
                      <m:t xml:space="preserve">, 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</m:e>
                    </m:d>
                    <m:r>
                      <m:t xml:space="preserve">'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" name="Объект 5"/>
              <p:cNvSpPr txBox="1"/>
              <p:nvPr/>
            </p:nvSpPr>
            <p:spPr>
              <a:xfrm>
                <a:off x="1395360" y="4430880"/>
                <a:ext cx="2286000" cy="88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'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x lna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" name="Объект 6"/>
              <p:cNvSpPr txBox="1"/>
              <p:nvPr/>
            </p:nvSpPr>
            <p:spPr>
              <a:xfrm>
                <a:off x="5776920" y="4363920"/>
                <a:ext cx="1693800" cy="97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lnx</m:t>
                    </m:r>
                    <m:r>
                      <m:t xml:space="preserve">)</m:t>
                    </m:r>
                    <m:r>
                      <m:t xml:space="preserve">'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x 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Таблица производных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0. 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1.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Номер слайда 3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36830-F64C-49FE-A7EE-964F51F3225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" name="Объект 5"/>
              <p:cNvSpPr txBox="1"/>
              <p:nvPr/>
            </p:nvSpPr>
            <p:spPr>
              <a:xfrm>
                <a:off x="1295280" y="1541520"/>
                <a:ext cx="2384640" cy="96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tg x</m:t>
                    </m:r>
                    <m:r>
                      <m:t xml:space="preserve">)</m:t>
                    </m:r>
                    <m:r>
                      <m:t xml:space="preserve">'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x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" name="Объект 5"/>
              <p:cNvSpPr txBox="1"/>
              <p:nvPr/>
            </p:nvSpPr>
            <p:spPr>
              <a:xfrm>
                <a:off x="1295280" y="2552760"/>
                <a:ext cx="2730600" cy="96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ctg x</m:t>
                    </m:r>
                    <m:r>
                      <m:t xml:space="preserve">)</m:t>
                    </m:r>
                    <m:r>
                      <m:t xml:space="preserve">'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x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" name="Объект 5"/>
              <p:cNvSpPr txBox="1"/>
              <p:nvPr/>
            </p:nvSpPr>
            <p:spPr>
              <a:xfrm>
                <a:off x="1295280" y="3611520"/>
                <a:ext cx="3232440" cy="10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arcsin x</m:t>
                    </m:r>
                    <m:r>
                      <m:t xml:space="preserve">)</m:t>
                    </m:r>
                    <m:r>
                      <m:t xml:space="preserve">'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" name="Объект 5"/>
              <p:cNvSpPr txBox="1"/>
              <p:nvPr/>
            </p:nvSpPr>
            <p:spPr>
              <a:xfrm>
                <a:off x="1278000" y="4611600"/>
                <a:ext cx="3546360" cy="10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arccos x</m:t>
                    </m:r>
                    <m:r>
                      <m:t xml:space="preserve">)</m:t>
                    </m:r>
                    <m:r>
                      <m:t xml:space="preserve">'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" name="Объект 5"/>
              <p:cNvSpPr txBox="1"/>
              <p:nvPr/>
            </p:nvSpPr>
            <p:spPr>
              <a:xfrm>
                <a:off x="6637320" y="1563840"/>
                <a:ext cx="2792520" cy="97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arctg x</m:t>
                    </m:r>
                    <m:r>
                      <m:t xml:space="preserve">)</m:t>
                    </m:r>
                    <m:r>
                      <m:t xml:space="preserve">'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" name="Объект 5"/>
              <p:cNvSpPr txBox="1"/>
              <p:nvPr/>
            </p:nvSpPr>
            <p:spPr>
              <a:xfrm>
                <a:off x="6640560" y="2570040"/>
                <a:ext cx="3230640" cy="97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arcctg x</m:t>
                    </m:r>
                    <m:r>
                      <m:t xml:space="preserve">)</m:t>
                    </m:r>
                    <m:r>
                      <m:t xml:space="preserve">'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Касательная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усть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M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и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очки на графике функции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 Проведём прямую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через эти точки. Далее будем двигать точку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по графику функции по направлению к точке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 Прямая, которая получается в пределе при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 </a:t>
            </a:r>
            <a:r>
              <a:rPr b="0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называется касательной к графику функции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в точке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Уравнение касательной к графику функции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в точке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y = f’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(x –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+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Номер слайда 3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E4EE5-28F0-4D24-9118-568F1A409CF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Смысл производной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19240" indent="-21924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аким образом,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’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– угловой коэффициент касательной к графику функции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в точке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Это утверждение представляет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геометрический смысл производной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помним, что угловой коэффициент прямой равен тангенсу угла наклона этой прямой относительно положительного направления оси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Ox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Физический смысл производной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: производная функции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в точк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представляет собой скорость изменения величины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f(x)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в момент времени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Номер слайда 3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A7D9E-1868-4EC2-9FE4-28CF7DFCFB2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Нормаль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ормалью к графику функции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в точке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называется прямая, проходящая через точку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перпендикулярно касательно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Уравнение нормали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x = f’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(y – 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+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аким образом, если производная в точке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е равна нулю, то уравнение нормали примет вид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y =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(1/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’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x –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+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Номер слайда 3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50579-0E29-40B0-A4D6-AE8D081F845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Производные высших порядков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Если производная функции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дифференцируема в точк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то производная производной называется второй производной функции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(x)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точке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налогично вводится понятие третьей, четвертой, пятой производной и т.д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означения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f’’(x), f’’’(x), f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IV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x) = f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(4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x), f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x) = f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(5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x), 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аким образом,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(n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x) = (f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(n – 1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x))’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 Из определения следует, что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(0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x) = f(x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ругое обозначение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Номер слайда 3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1D26D-8AC4-4FFC-8EFD-14B1A93DF25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Объект 5"/>
              <p:cNvSpPr txBox="1"/>
              <p:nvPr/>
            </p:nvSpPr>
            <p:spPr>
              <a:xfrm>
                <a:off x="4564080" y="5110200"/>
                <a:ext cx="2478240" cy="103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Классы непрерывных функций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ножество всех функций, имеющих на множеств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E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непрерывные производные до порядк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n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включительно, образуют класс функций, обозначаемый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E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Утверждение: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Если функция дифференцируема в точк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x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то она непрерывна в этой точк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Номер слайда 3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56EA0-EB64-4C52-8894-6B93A8E4869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Локальные экстремумы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очка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называется точкой локального максимума функции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если в некоторой окрестности этой точки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f(x) &lt; f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очка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называется точкой локального минимума функции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если в некоторой окрестности этой точки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f(x) &gt; f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очки локального минимума и локального максимума называются точками локального экстремума. А значение функции в этих точках – локальными экстремумами (соответственно, локальными минимумами и локальными максимумами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Номер слайда 3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93227-A75B-4FD6-A685-5C7AB6F1746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Необходимое условие экстремума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Теорема Ферма: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Если функция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дифференцируема в точк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является точкой локального экстремума для функции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f(x)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то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’(x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 = 0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Эта теорема представляет собой необходимое условие существования локального экстремума функции. То есть локальный экстремум функции может находиться только в тех точках, где производная равна 0. Такие точки называются стационарными точками функци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Номер слайда 3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F17B9-EF82-4F7E-ADFA-B35D61BE64D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2226960"/>
            <a:ext cx="10515600" cy="174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alibri Light"/>
              </a:rPr>
              <a:t>Дифференциальное исчисление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Номер слайда 3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0F58C-CC2F-4A93-B229-75A7FA3459F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Монотонность и производная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Утверждение (признак монотонности функции):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Если </a:t>
            </a:r>
            <a:r>
              <a:rPr b="0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x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(a,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) f’(x) &lt; 0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то функция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убывает на интервале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a,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)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 Если </a:t>
            </a:r>
            <a:r>
              <a:rPr b="0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x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a,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) f’(x) &gt; 0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то функция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возрастает на интервале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a,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)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Утверждение (критерий постоянства функции):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Непрерывная на отрезке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[a, b]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функция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(x)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стоянна на этом отрезке тогда и только тогда, когда </a:t>
            </a:r>
            <a:r>
              <a:rPr b="0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x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[a,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] f’(x) = 0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Номер слайда 3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B9CDB-D7EC-4C2F-A8AF-A144082CB7A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Достаточное условие экстремума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Теорема: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Пусть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(x)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ифференцируема в некоторой окрестности стационарной точки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 Тогда, если в некоторой окрестности точки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’(x) &lt; 0 </a:t>
            </a:r>
            <a:r>
              <a:rPr b="0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x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&lt;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’(x) &gt; 0 </a:t>
            </a:r>
            <a:r>
              <a:rPr b="0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x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&gt;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о функция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f(x)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имеет локальный минимум в точк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 Если в некоторой окрестности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очки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’(x) &gt; 0 </a:t>
            </a:r>
            <a:r>
              <a:rPr b="0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x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&lt;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’(x) &lt; 0 </a:t>
            </a:r>
            <a:r>
              <a:rPr b="0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x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&gt;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о функция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f(x)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имеет локальный максимум в точк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 Если ж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некоторой окрестности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очки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’(x)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имеет один и тот же знак </a:t>
            </a:r>
            <a:r>
              <a:rPr b="0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x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то в точк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локального экстремума нет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Номер слайда 3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77D9E-B995-433B-9336-6E7D8E5259F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Второе достаточное условие экстремума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Теорема: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Пусть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(x)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важды дифференцируема в стационарной точк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 Тогда, если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’’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 &lt; 0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то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– точка локального максимума. Если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’’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 &gt; 0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то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– точка локального минимум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Номер слайда 3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221C8-EEA7-431B-83D6-40C5C2D5694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Выпуклость функции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Функция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называется выпуклой вверх на интервале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a, b)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если график функции лежит ниже любой своей касательной на этом интервал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Функция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называется выпуклой вниз на интервале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a, b)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если график функции лежит выше любой своей касательной на этом интервал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Теорема: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Пусть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(x)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важды дифференцируема на интервале       (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, b)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 Тогда,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если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’’(x) &lt; 0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x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(a,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)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то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(x)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ыпукла вверх на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a, b)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 Если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’’(x) &gt; 0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x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(a,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)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то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(x)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ыпукла вниз на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a, b)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Номер слайда 3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E6AED-62F5-4FF0-A6B6-6D6A293F392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Теоремы о конечном приращении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Теорема Ролля: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Если функция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f(x)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непрерывна на отрезк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[a, b]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дифференцируема на интервале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a, b)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(a) = f(b)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то </a:t>
            </a:r>
            <a:r>
              <a:rPr b="0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Calibri"/>
              </a:rPr>
              <a:t>ξ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, b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 f’(</a:t>
            </a:r>
            <a:r>
              <a:rPr b="0" lang="el-GR" sz="2800" spc="-1" strike="noStrike">
                <a:solidFill>
                  <a:srgbClr val="000000"/>
                </a:solidFill>
                <a:latin typeface="Calibri"/>
              </a:rPr>
              <a:t>ξ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 = 0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Теорема Лагранжа: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Если функция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f(x)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непрерывна на отрезк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[a, b]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и дифференцируема на интервале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a, b)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то </a:t>
            </a:r>
            <a:r>
              <a:rPr b="0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Calibri"/>
              </a:rPr>
              <a:t>ξ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, b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(b) – f(a) = f’(</a:t>
            </a:r>
            <a:r>
              <a:rPr b="0" lang="el-GR" sz="2800" spc="-1" strike="noStrike">
                <a:solidFill>
                  <a:srgbClr val="000000"/>
                </a:solidFill>
                <a:latin typeface="Calibri"/>
              </a:rPr>
              <a:t>ξ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(b – a)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Теорема Коши: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Если функции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x(t)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y(t)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непрерывны на отрезк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[</a:t>
            </a:r>
            <a:r>
              <a:rPr b="0" lang="el-GR" sz="2800" spc="-1" strike="noStrike">
                <a:solidFill>
                  <a:srgbClr val="000000"/>
                </a:solidFill>
                <a:latin typeface="Calibri"/>
              </a:rPr>
              <a:t>α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l-GR" sz="2800" spc="-1" strike="noStrike">
                <a:solidFill>
                  <a:srgbClr val="000000"/>
                </a:solidFill>
                <a:latin typeface="Calibri"/>
              </a:rPr>
              <a:t>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и дифференцируема на интервале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l-GR" sz="2800" spc="-1" strike="noStrike">
                <a:solidFill>
                  <a:srgbClr val="000000"/>
                </a:solidFill>
                <a:latin typeface="Calibri"/>
              </a:rPr>
              <a:t>α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l-GR" sz="2800" spc="-1" strike="noStrike">
                <a:solidFill>
                  <a:srgbClr val="000000"/>
                </a:solidFill>
                <a:latin typeface="Calibri"/>
              </a:rPr>
              <a:t>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то </a:t>
            </a:r>
            <a:r>
              <a:rPr b="0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Calibri"/>
              </a:rPr>
              <a:t>τ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el-GR" sz="2800" spc="-1" strike="noStrike">
                <a:solidFill>
                  <a:srgbClr val="000000"/>
                </a:solidFill>
                <a:latin typeface="Calibri"/>
              </a:rPr>
              <a:t>α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l-GR" sz="2800" spc="-1" strike="noStrike">
                <a:solidFill>
                  <a:srgbClr val="000000"/>
                </a:solidFill>
                <a:latin typeface="Calibri"/>
              </a:rPr>
              <a:t>β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x’(</a:t>
            </a:r>
            <a:r>
              <a:rPr b="0" lang="el-GR" sz="2800" spc="-1" strike="noStrike">
                <a:solidFill>
                  <a:srgbClr val="000000"/>
                </a:solidFill>
                <a:latin typeface="Calibri"/>
              </a:rPr>
              <a:t>τ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(y(</a:t>
            </a:r>
            <a:r>
              <a:rPr b="0" lang="el-GR" sz="2800" spc="-1" strike="noStrike">
                <a:solidFill>
                  <a:srgbClr val="000000"/>
                </a:solidFill>
                <a:latin typeface="Calibri"/>
              </a:rPr>
              <a:t>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 – y(</a:t>
            </a:r>
            <a:r>
              <a:rPr b="0" lang="el-GR" sz="2800" spc="-1" strike="noStrike">
                <a:solidFill>
                  <a:srgbClr val="000000"/>
                </a:solidFill>
                <a:latin typeface="Calibri"/>
              </a:rPr>
              <a:t>α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) = y’(</a:t>
            </a:r>
            <a:r>
              <a:rPr b="0" lang="el-GR" sz="2800" spc="-1" strike="noStrike">
                <a:solidFill>
                  <a:srgbClr val="000000"/>
                </a:solidFill>
                <a:latin typeface="Calibri"/>
              </a:rPr>
              <a:t>τ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(x(</a:t>
            </a:r>
            <a:r>
              <a:rPr b="0" lang="el-GR" sz="2800" spc="-1" strike="noStrike">
                <a:solidFill>
                  <a:srgbClr val="000000"/>
                </a:solidFill>
                <a:latin typeface="Calibri"/>
              </a:rPr>
              <a:t>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 – x(</a:t>
            </a:r>
            <a:r>
              <a:rPr b="0" lang="el-GR" sz="2800" spc="-1" strike="noStrike">
                <a:solidFill>
                  <a:srgbClr val="000000"/>
                </a:solidFill>
                <a:latin typeface="Calibri"/>
              </a:rPr>
              <a:t>α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)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Номер слайда 3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110B9-902B-49FF-8FBF-4431E69355A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Формула Тейлора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19240" indent="-21924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Любую функцию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имеющую производные до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порядка, можно представить в виде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ногочленом Тейлора порядк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n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функции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в точке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называется многочле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x)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=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(x) – 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x)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называется остаточным членом формулы Тейлор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Номер слайда 3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FDEF2-57B8-49B5-9BC3-5049AACB2C0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" name="Объект 5"/>
              <p:cNvSpPr txBox="1"/>
              <p:nvPr/>
            </p:nvSpPr>
            <p:spPr>
              <a:xfrm>
                <a:off x="192240" y="2738520"/>
                <a:ext cx="11806200" cy="103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f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!</m:t>
                        </m:r>
                      </m:den>
                    </m:f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f</m:t>
                        </m:r>
                        <m:r>
                          <m:rPr>
                            <m:lit/>
                            <m:nor/>
                          </m:rPr>
                          <m:t xml:space="preserve">''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!</m:t>
                        </m:r>
                      </m:den>
                    </m:f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f>
                      <m:num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n!</m:t>
                        </m:r>
                      </m:den>
                    </m:f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Объект 5"/>
              <p:cNvSpPr txBox="1"/>
              <p:nvPr/>
            </p:nvSpPr>
            <p:spPr>
              <a:xfrm>
                <a:off x="3949560" y="4308480"/>
                <a:ext cx="4291200" cy="109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f>
                          <m:num>
                            <m:sSup>
                              <m:e>
                                <m:r>
                                  <m:t xml:space="preserve">f</m:t>
                                </m:r>
                              </m:e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k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k!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k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Остаточный член формулы Тейлора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Форма Коши остаточного члена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Форма Лагранжа остаточного члена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Форма Пеано остаточного члена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Номер слайда 3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97750-0DBA-48FF-82AA-BF99693990D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Объект 5"/>
              <p:cNvSpPr txBox="1"/>
              <p:nvPr/>
            </p:nvSpPr>
            <p:spPr>
              <a:xfrm>
                <a:off x="6095880" y="1492200"/>
                <a:ext cx="4916520" cy="103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ξ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n!</m:t>
                        </m:r>
                      </m:den>
                    </m:f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ξ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Объект 6"/>
              <p:cNvSpPr txBox="1"/>
              <p:nvPr/>
            </p:nvSpPr>
            <p:spPr>
              <a:xfrm>
                <a:off x="6784920" y="2527200"/>
                <a:ext cx="4133880" cy="109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ξ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!</m:t>
                        </m:r>
                      </m:den>
                    </m:f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" name="Объект 7"/>
              <p:cNvSpPr txBox="1"/>
              <p:nvPr/>
            </p:nvSpPr>
            <p:spPr>
              <a:xfrm>
                <a:off x="6269040" y="3808440"/>
                <a:ext cx="3100320" cy="59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o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Первое правило Лопиталя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Теорема (первое правило Лопиталя):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Пусть функции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и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g(x)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ифференцируемы на интервале (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, b)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                                           и существует предел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огда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Номер слайда 3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625EC-A269-4993-904B-991D72FD60F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Объект 5"/>
              <p:cNvSpPr txBox="1"/>
              <p:nvPr/>
            </p:nvSpPr>
            <p:spPr>
              <a:xfrm>
                <a:off x="7288200" y="2203560"/>
                <a:ext cx="354636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lim>
                    </m:limLow>
                    <m:r>
                      <m:rPr>
                        <m:lit/>
                        <m:nor/>
                      </m:rPr>
                      <m:t xml:space="preserve"> 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lim>
                    </m:limLow>
                    <m:r>
                      <m:rPr>
                        <m:lit/>
                        <m:nor/>
                      </m:rPr>
                      <m:t xml:space="preserve"> g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" name="Объект 5"/>
              <p:cNvSpPr txBox="1"/>
              <p:nvPr/>
            </p:nvSpPr>
            <p:spPr>
              <a:xfrm>
                <a:off x="5594400" y="2933640"/>
                <a:ext cx="1693800" cy="106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lim>
                    </m:limLow>
                    <m:f>
                      <m:num>
                        <m:r>
                          <m:t xml:space="preserve">f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g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" name="Объект 6"/>
              <p:cNvSpPr txBox="1"/>
              <p:nvPr/>
            </p:nvSpPr>
            <p:spPr>
              <a:xfrm>
                <a:off x="1982880" y="3863880"/>
                <a:ext cx="3386160" cy="106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lim>
                    </m:limLow>
                    <m:f>
                      <m:num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lim>
                    </m:limLow>
                    <m:f>
                      <m:num>
                        <m:r>
                          <m:t xml:space="preserve">f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g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Второе правило Лопиталя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Теорема (второе правило Лопиталя):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Пусть функции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и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g(x)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ифференцируемы на интервале (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, b)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                                           и существует предел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огда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Номер слайда 3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9F6F3-676F-4DB8-A930-1E7A57E233C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Объект 5"/>
              <p:cNvSpPr txBox="1"/>
              <p:nvPr/>
            </p:nvSpPr>
            <p:spPr>
              <a:xfrm>
                <a:off x="7256520" y="2203560"/>
                <a:ext cx="361008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lim>
                    </m:limLow>
                    <m:r>
                      <m:rPr>
                        <m:lit/>
                        <m:nor/>
                      </m:rPr>
                      <m:t xml:space="preserve"> 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lim>
                    </m:limLow>
                    <m:r>
                      <m:rPr>
                        <m:lit/>
                        <m:nor/>
                      </m:rPr>
                      <m:t xml:space="preserve"> g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" name="Объект 5"/>
              <p:cNvSpPr txBox="1"/>
              <p:nvPr/>
            </p:nvSpPr>
            <p:spPr>
              <a:xfrm>
                <a:off x="5594400" y="2933640"/>
                <a:ext cx="1693800" cy="106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lim>
                    </m:limLow>
                    <m:f>
                      <m:num>
                        <m:r>
                          <m:t xml:space="preserve">f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g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Объект 6"/>
              <p:cNvSpPr txBox="1"/>
              <p:nvPr/>
            </p:nvSpPr>
            <p:spPr>
              <a:xfrm>
                <a:off x="1982880" y="3863880"/>
                <a:ext cx="3386160" cy="106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lim>
                    </m:limLow>
                    <m:f>
                      <m:num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lim>
                    </m:limLow>
                    <m:f>
                      <m:num>
                        <m:r>
                          <m:t xml:space="preserve">f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g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Дифференцируемая функция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ыражение </a:t>
            </a:r>
            <a:r>
              <a:rPr b="0" lang="el-GR" sz="2800" spc="-1" strike="noStrike">
                <a:solidFill>
                  <a:srgbClr val="000000"/>
                </a:solidFill>
                <a:latin typeface="Calibri"/>
              </a:rPr>
              <a:t>Δ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(x) = f(x) – f(a)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зывается приращением функции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 Выражени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Calibri"/>
              </a:rPr>
              <a:t>Δ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x = x – a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зывается приращением аргумента.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иращение функции можно выразить через приращение аргумента: </a:t>
            </a:r>
            <a:r>
              <a:rPr b="0" lang="el-GR" sz="2800" spc="-1" strike="noStrike">
                <a:solidFill>
                  <a:srgbClr val="000000"/>
                </a:solidFill>
                <a:latin typeface="Calibri"/>
              </a:rPr>
              <a:t>Δ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(</a:t>
            </a:r>
            <a:r>
              <a:rPr b="0" lang="el-GR" sz="2800" spc="-1" strike="noStrike">
                <a:solidFill>
                  <a:srgbClr val="000000"/>
                </a:solidFill>
                <a:latin typeface="Calibri"/>
              </a:rPr>
              <a:t>Δ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x) = f(a + </a:t>
            </a:r>
            <a:r>
              <a:rPr b="0" lang="el-GR" sz="2800" spc="-1" strike="noStrike">
                <a:solidFill>
                  <a:srgbClr val="000000"/>
                </a:solidFill>
                <a:latin typeface="Calibri"/>
              </a:rPr>
              <a:t>Δ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x) – f(a)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Функция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: X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ℝ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зывается дифференцируемой в точке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X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если </a:t>
            </a:r>
            <a:r>
              <a:rPr b="0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такая линейная относительно </a:t>
            </a:r>
            <a:r>
              <a:rPr b="0" lang="el-GR" sz="2800" spc="-1" strike="noStrike">
                <a:solidFill>
                  <a:srgbClr val="000000"/>
                </a:solidFill>
                <a:latin typeface="Calibri"/>
              </a:rPr>
              <a:t>Δ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функция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f(</a:t>
            </a:r>
            <a:r>
              <a:rPr b="0" lang="el-GR" sz="2800" spc="-1" strike="noStrike">
                <a:solidFill>
                  <a:srgbClr val="000000"/>
                </a:solidFill>
                <a:latin typeface="Calibri"/>
              </a:rPr>
              <a:t>Δ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x) = A(x)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l-GR" sz="2800" spc="-1" strike="noStrike">
                <a:solidFill>
                  <a:srgbClr val="000000"/>
                </a:solidFill>
                <a:latin typeface="Calibri"/>
              </a:rPr>
              <a:t>Δ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что приращение функции можно представить в виде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(x + </a:t>
            </a:r>
            <a:r>
              <a:rPr b="0" lang="el-GR" sz="2800" spc="-1" strike="noStrike">
                <a:solidFill>
                  <a:srgbClr val="000000"/>
                </a:solidFill>
                <a:latin typeface="Calibri"/>
              </a:rPr>
              <a:t>Δ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x) – f(x) = A(x)</a:t>
            </a:r>
            <a:r>
              <a:rPr b="0" lang="el-GR" sz="2800" spc="-1" strike="noStrike">
                <a:solidFill>
                  <a:srgbClr val="000000"/>
                </a:solidFill>
                <a:latin typeface="Calibri"/>
              </a:rPr>
              <a:t>Δ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x + o(</a:t>
            </a:r>
            <a:r>
              <a:rPr b="0" lang="el-GR" sz="2800" spc="-1" strike="noStrike">
                <a:solidFill>
                  <a:srgbClr val="000000"/>
                </a:solidFill>
                <a:latin typeface="Calibri"/>
              </a:rPr>
              <a:t>Δ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x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Функция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f(</a:t>
            </a:r>
            <a:r>
              <a:rPr b="0" lang="el-GR" sz="2800" spc="-1" strike="noStrike">
                <a:solidFill>
                  <a:srgbClr val="000000"/>
                </a:solidFill>
                <a:latin typeface="Calibri"/>
              </a:rPr>
              <a:t>Δ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x)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называется дифференциалом функции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Номер слайда 3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C9FE6-DA41-4AEC-A16E-AF219FFE24F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Дифференцируемая функция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аким образом, функция дифференцируема в точке, если ее приращение в этой точке как функция приращения аргумента является линейной с точностью до бесконечно малой в сравнении с приращением аргумент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ак как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(</a:t>
            </a:r>
            <a:r>
              <a:rPr b="0" lang="el-GR" sz="2800" spc="-1" strike="noStrike">
                <a:solidFill>
                  <a:srgbClr val="000000"/>
                </a:solidFill>
                <a:latin typeface="Calibri"/>
              </a:rPr>
              <a:t>Δ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x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0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и </a:t>
            </a:r>
            <a:r>
              <a:rPr b="0" lang="el-GR" sz="2800" spc="-1" strike="noStrike">
                <a:solidFill>
                  <a:srgbClr val="000000"/>
                </a:solidFill>
                <a:latin typeface="Calibri"/>
              </a:rPr>
              <a:t>Δ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0 получаем, что при </a:t>
            </a:r>
            <a:r>
              <a:rPr b="0" lang="el-GR" sz="2800" spc="-1" strike="noStrike">
                <a:solidFill>
                  <a:srgbClr val="000000"/>
                </a:solidFill>
                <a:latin typeface="Calibri"/>
              </a:rPr>
              <a:t>Δ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0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(x + </a:t>
            </a:r>
            <a:r>
              <a:rPr b="0" lang="el-GR" sz="2800" spc="-1" strike="noStrike">
                <a:solidFill>
                  <a:srgbClr val="000000"/>
                </a:solidFill>
                <a:latin typeface="Calibri"/>
              </a:rPr>
              <a:t>Δ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x) – f(x) = A(x)</a:t>
            </a:r>
            <a:r>
              <a:rPr b="0" lang="el-GR" sz="2800" spc="-1" strike="noStrike">
                <a:solidFill>
                  <a:srgbClr val="000000"/>
                </a:solidFill>
                <a:latin typeface="Calibri"/>
              </a:rPr>
              <a:t>Δ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тсюда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Номер слайда 3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4B7C9-4650-47E6-B9AB-F26FFDFCB03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Объект 5"/>
              <p:cNvSpPr txBox="1"/>
              <p:nvPr/>
            </p:nvSpPr>
            <p:spPr>
              <a:xfrm>
                <a:off x="3981600" y="4809960"/>
                <a:ext cx="4227480" cy="97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Δx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f>
                      <m:num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Δx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Δx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Производная функции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Эта функция называется производной функции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в точке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 обозначается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’(x)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ругими словами, функция дифференцируема в точке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если у нее есть производная в этой точк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ак как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f(</a:t>
            </a:r>
            <a:r>
              <a:rPr b="0" lang="el-GR" sz="2800" spc="-1" strike="noStrike">
                <a:solidFill>
                  <a:srgbClr val="000000"/>
                </a:solidFill>
                <a:latin typeface="Calibri"/>
              </a:rPr>
              <a:t>Δ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x) = A(x)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l-GR" sz="2800" spc="-1" strike="noStrike">
                <a:solidFill>
                  <a:srgbClr val="000000"/>
                </a:solidFill>
                <a:latin typeface="Calibri"/>
              </a:rPr>
              <a:t>Δ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значит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f(</a:t>
            </a:r>
            <a:r>
              <a:rPr b="0" lang="el-GR" sz="2800" spc="-1" strike="noStrike">
                <a:solidFill>
                  <a:srgbClr val="000000"/>
                </a:solidFill>
                <a:latin typeface="Calibri"/>
              </a:rPr>
              <a:t>Δ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x)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’(x)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l-GR" sz="2800" spc="-1" strike="noStrike">
                <a:solidFill>
                  <a:srgbClr val="000000"/>
                </a:solidFill>
                <a:latin typeface="Calibri"/>
              </a:rPr>
              <a:t>Δ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чевидно, что если в качестве функции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мы возьмем функцию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(x) = x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то ее производная будет равна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Номер слайда 3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00513-ABD0-4384-AE5E-0255EEAE3CA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Объект 5"/>
              <p:cNvSpPr txBox="1"/>
              <p:nvPr/>
            </p:nvSpPr>
            <p:spPr>
              <a:xfrm>
                <a:off x="2760840" y="5043600"/>
                <a:ext cx="6670440" cy="97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'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Δx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f>
                      <m:num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Δx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Δx</m:t>
                        </m:r>
                      </m:den>
                    </m:f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Δx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f>
                      <m:num>
                        <m:r>
                          <m:t xml:space="preserve">Δx</m:t>
                        </m:r>
                      </m:num>
                      <m:den>
                        <m:r>
                          <m:t xml:space="preserve">Δx</m:t>
                        </m:r>
                      </m:den>
                    </m:f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Δx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Дифференциал функции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тсюда следует, что дифференциал функции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(x) = x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можно записать в виде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x(</a:t>
            </a:r>
            <a:r>
              <a:rPr b="0" lang="el-GR" sz="2800" spc="-1" strike="noStrike">
                <a:solidFill>
                  <a:srgbClr val="000000"/>
                </a:solidFill>
                <a:latin typeface="Calibri"/>
              </a:rPr>
              <a:t>Δ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x)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x)’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l-GR" sz="2800" spc="-1" strike="noStrike">
                <a:solidFill>
                  <a:srgbClr val="000000"/>
                </a:solidFill>
                <a:latin typeface="Calibri"/>
              </a:rPr>
              <a:t>Δ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x = 1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l-GR" sz="2800" spc="-1" strike="noStrike">
                <a:solidFill>
                  <a:srgbClr val="000000"/>
                </a:solidFill>
                <a:latin typeface="Calibri"/>
              </a:rPr>
              <a:t>Δ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x = </a:t>
            </a:r>
            <a:r>
              <a:rPr b="0" lang="el-GR" sz="2800" spc="-1" strike="noStrike">
                <a:solidFill>
                  <a:srgbClr val="000000"/>
                </a:solidFill>
                <a:latin typeface="Calibri"/>
              </a:rPr>
              <a:t>Δ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x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о есть дифференциал независимой переменной совпадает с ее приращением: </a:t>
            </a:r>
            <a:r>
              <a:rPr b="0" lang="el-GR" sz="2800" spc="-1" strike="noStrike">
                <a:solidFill>
                  <a:srgbClr val="000000"/>
                </a:solidFill>
                <a:latin typeface="Calibri"/>
              </a:rPr>
              <a:t>Δ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x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ледовательно,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f(x) = f’(x)dx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тсюда еще одно обозначение производной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Номер слайда 3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6A03C-A8C4-42C5-8AC1-9BC184970D8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Объект 5"/>
              <p:cNvSpPr txBox="1"/>
              <p:nvPr/>
            </p:nvSpPr>
            <p:spPr>
              <a:xfrm>
                <a:off x="5295960" y="4633920"/>
                <a:ext cx="1600200" cy="97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'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Правила дифференцирования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Теорема: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Пусть функции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: X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ℝ и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: X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ℝ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ифференцируемы в точке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X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 Тогда их сумма, их разность, их произведение и их отношение (при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(x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0)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дифференцируемы в точке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причем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 ± g)’ (x) = f’(x) ± g’(x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)’ (x) = f’(x)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(x) + f(x)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’(x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Номер слайда 3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26492-CD99-484C-A16F-0F5294C3F08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" name="Объект 5"/>
              <p:cNvSpPr txBox="1"/>
              <p:nvPr/>
            </p:nvSpPr>
            <p:spPr>
              <a:xfrm>
                <a:off x="1328760" y="4002120"/>
                <a:ext cx="4767120" cy="128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f</m:t>
                                </m:r>
                              </m:num>
                              <m:den>
                                <m:r>
                                  <m:t xml:space="preserve">g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g'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num>
                      <m:den>
                        <m:sSup>
                          <m:e>
                            <m:r>
                              <m:t xml:space="preserve">g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Правила дифференцирования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Утверждение 1: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Если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(x) = C = const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то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’(x) = 0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Утверждение 2: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Если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 = const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то (С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(x))’ = Cf’(x)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Номер слайда 3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50C65-B0FA-45FD-A15C-7070EC1063B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Дифференцирование композиции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Теорема о производной сложной функции: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Если функция        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: X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Y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ифференцируема в точке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X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а функция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: Y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ℝ дифференцируема в точке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y = f(x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Y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то их композиция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(x) = g◦f = g(f(x))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ифференцируема в точке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причем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’(x) = g’(y)·f’(x) = g’(f(x))·f’(x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Номер слайда 3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FD34F-D6D2-49F6-8546-392A129F115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01T10:52:45Z</dcterms:created>
  <dc:creator>Александр Кабанов</dc:creator>
  <dc:description/>
  <dc:language>en-US</dc:language>
  <cp:lastModifiedBy>Александр Кабанов</cp:lastModifiedBy>
  <dcterms:modified xsi:type="dcterms:W3CDTF">2017-11-13T14:15:23Z</dcterms:modified>
  <cp:revision>367</cp:revision>
  <dc:subject/>
  <dc:title>Информатика</dc:title>
</cp:coreProperties>
</file>