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685440" y="1143000"/>
            <a:ext cx="5483160" cy="3083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316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DFD8B-D13A-4872-8578-35CFA60653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65CE8-FABE-487F-9A2A-9AB071B020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5E7DD-96F1-411B-AAF2-FA1D1585AD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DC62-5E77-4DF6-8B47-BBECEDFBBAA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AB9B0-79DC-4C5A-934C-EC24E5B697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E661E-2968-41B2-8E00-73C2A4D943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3562-A85F-4664-91C7-F5DDC8A3F3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60A5-B365-4679-943F-6A3C98A9106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F1695-58D2-413F-9763-52E829D4F1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1140E-FD22-41D7-9DB7-8F42590AFA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7B38F-BF42-4D05-BAF5-4E82AA7156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9603D-25C8-4359-90FA-A0234C68E0E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D773-32BE-46FE-8422-600823B9DC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62621-242D-4B24-84CD-211185CC17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3C904-91DE-40A6-98E3-DD235FB6D2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0B57-97AF-40D6-8539-B1E7CC8969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F6536-4E8C-4B61-91CC-881AB543ED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9167A-2F44-4A2C-9E16-D91173F794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38370-06AD-4F14-A95C-4797F56BE9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7A636-7575-4D38-A218-856D3BA6E8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CDF57-405C-48A5-87AD-A5D8A66279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4A799-6F35-4452-AE8A-5D75EA7EC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0A88-4143-4A8B-BE29-7A9408941E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8D674-3732-40D2-899F-C30F1A7D4A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A072D-5FED-418F-933C-F54CC39281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C171-C760-444C-B533-E9E5B044FE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0CD06-2AB3-4341-911D-8E54A4CDEA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C3A3A-7AA1-43B3-A3B5-B20346C956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13D2-018E-4D85-8167-AD4EBE097FD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AAF25-BB9F-4DBD-8091-7CE0BEFDEB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99AA6-2C8C-4DCF-BAEC-F18AB51D9F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884760" y="8685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6DF59-9058-4E61-BD5A-48C37BE33F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093F-A8A4-478B-83DC-130055830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314C-F351-4492-8DF1-FDDA068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7548-2E57-47A1-BD4E-859CEDC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646E-52BE-4DF3-9622-A59BFE5377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9D8C-9724-4A5B-B4B8-FAA34E08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E72C-5AEC-422F-84C6-D3882FD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72F5-E0C9-4B10-81D0-B198DA9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EED7-325C-49A8-AFA6-7B802320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9A8C-862D-48EE-95BC-AF69F6B2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49B2-EF24-4907-A71E-A946997B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9654-2C06-4B1E-B807-316EB729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F3DA-8A2F-4472-8DE7-4E4EC73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.10.1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58481-4439-4EC7-B400-9E5D94FD443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1523880" y="5508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атематический анализ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онотонная последовательнос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возрастающей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убывающей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невозрастающей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≤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неубывающей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≥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и таких типов называются монотонны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C8D69-55A5-46E5-AEDE-A5A71AE80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монотонной последователь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Вейерштрасс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нотонная последовательность сходится тогда и только тогда, когда она ограничен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еча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сходимости неубывающей последовательности необходимо и достаточно, чтобы последовательность была ограничена сверх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меча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сходимости невозрастающей последовательности необходимо и достаточно, чтобы последовательность была ограничена сниз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9104-EBD5-4776-8097-C9D6ABDDA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: |x – a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|f(x) – A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другому: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колотая окрест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Ů(a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Ů(a)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ение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94770-9822-49FD-84F7-2AF6944C3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3360600" y="4389480"/>
                <a:ext cx="1879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еет преде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следователь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ходящей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ходит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называется финально постоянной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она принимает одно и то же значени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Ů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F10D0-40E2-4F90-B047-2533A541F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граниченная функ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 сверху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 снизу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 сверху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f(x)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, если эти условия выполняютс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Ů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оворят, ч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инально ограничена сверху, финально ограничена снизу или финально ограничена соответственно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91ED8-1299-4D3C-9CD4-04FEDBBD74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предела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инально постоянна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у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ть предел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может иметь двух различных пределов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редел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нально ограничена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65F85-3F7F-4515-95AB-6FAFAE321D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арифметические опер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, т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F913B-7290-4E0A-945E-C92F42293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62120" y="2319480"/>
                <a:ext cx="1881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3828960" y="2319480"/>
                <a:ext cx="19144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744480" y="3251160"/>
                <a:ext cx="39816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малы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имеет предел, равный нулю,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, что эта функция – бесконечно малое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– бесконечно малые функции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бесконечно малая функция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бесконечно малая функция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бесконечно малая функция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– финально ограниченная функция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бесконечно малая функция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8600"/>
                <a:tab algn="l" pos="33336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неравен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                   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&lt;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ая проколотая окрест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Ů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Ů(a) f(x) &lt; 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мма «о двух милиционерах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h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f(x) 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≤ h(x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эт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D4062-B430-4634-AF58-545441421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157640" y="2305080"/>
                <a:ext cx="1881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6154560" y="2305080"/>
                <a:ext cx="1914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4535640" y="4597560"/>
                <a:ext cx="34160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565280" y="5103720"/>
                <a:ext cx="2008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неравен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некоторойй проколотой окрестности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≤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≤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≥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≥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3287C-F26B-4170-B219-7030EFCD6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4343400" y="2305080"/>
                <a:ext cx="1881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6359400" y="2305080"/>
                <a:ext cx="191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последователь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ом последователь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&gt; N |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другому: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ом последователь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&gt; 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ение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том говорят, что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ходит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стремится 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, имеющая предел, называется сходящейся. Не имеющая – расходящей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19D9E-F430-43AB-9FE3-FBD196EA4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349800" y="3581280"/>
                <a:ext cx="1690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компози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, g: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,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,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Тогд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ел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(x) = g◦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8FF0E-9D49-48DD-B786-87183983EA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88240" y="1790640"/>
                <a:ext cx="2444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4654440" y="2795760"/>
                <a:ext cx="28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9914040" y="1790640"/>
                <a:ext cx="1347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ритерий Коши предела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предел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: |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a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f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ми словами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предел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колотая окрест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Ů(a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Ů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f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F10E5-501A-4ED0-9BCE-438D2FE1E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-символ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ая по сравнению с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в некотор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представи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· 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конечно малая функция 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том пишут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o(g(x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 читают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ть «о» малое 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o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 так к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эт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сконечно малая, то говорят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сконечно малая более высокого порядка по сравнению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49F5A-7EC5-498C-AE59-CB9F41B3A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-символи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ворят, ч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О» большое 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тремящимся 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в некотор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жно представи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· 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ная в этой окрестности функц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шут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O(g(x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 так к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·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F8A5-F626-4194-AAB2-93904A21C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О-символи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f(x)) + o(f(x)) = o(f(x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f(x)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f(x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f(x)) + O(f(x)) = O(f(x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f(x)) + O(f(x)) = O(f(x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2640" indent="-51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12640"/>
                <a:tab algn="l" pos="617400"/>
                <a:tab algn="l" pos="1066680"/>
                <a:tab algn="l" pos="1515960"/>
                <a:tab algn="l" pos="1965240"/>
                <a:tab algn="l" pos="2414520"/>
                <a:tab algn="l" pos="2863800"/>
                <a:tab algn="l" pos="3313080"/>
                <a:tab algn="l" pos="3762360"/>
                <a:tab algn="l" pos="4211640"/>
                <a:tab algn="l" pos="4660920"/>
                <a:tab algn="l" pos="5110200"/>
                <a:tab algn="l" pos="5559480"/>
                <a:tab algn="l" pos="6008760"/>
                <a:tab algn="l" pos="6458040"/>
                <a:tab algn="l" pos="6907320"/>
                <a:tab algn="l" pos="7356600"/>
                <a:tab algn="l" pos="7805880"/>
                <a:tab algn="l" pos="8255160"/>
                <a:tab algn="l" pos="8704440"/>
                <a:tab algn="l" pos="915336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6B78-5446-4059-A4BF-126F96CB9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143080" y="4573440"/>
                <a:ext cx="278784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435640" y="4573440"/>
                <a:ext cx="300492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прерывные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непрерывной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f(a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a): f(U(a)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f(a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предельной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Ů(a)∩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колотой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Ů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 противном случае 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изолированн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1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ерывна в любой изолированной точке из области определ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 в предельной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6715D-209F-4469-8F9F-0A6C4E291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571760" y="5280120"/>
                <a:ext cx="2192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прерывные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называется непрерывной на множест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она непрерывна в каждой точке этого множе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всех функций, непрерывных на множест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всех функций, непрерывных на интерва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всех функций, непрерывных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6BF3-D1F2-4714-BB74-E4E6AF403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очки разры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является непрерывной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точ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точкой разрыв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разрыв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f(a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крест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(a) f(U(a)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f(a)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разры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устранимой точкой разры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существуют и равны конечные односторонние пределы этой функции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77C6-3BC2-49CB-AF1D-2DC524327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3243240" y="4365720"/>
                <a:ext cx="2881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a-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и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очки разры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разры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точкой разрыва первого род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существуют конечные односторонние предел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разры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точкой разрыва второго 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хотя бы один из односторонних пределов не существует или бесконечен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F92DF-0982-4A38-9924-72728A9BBC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109520" y="2641680"/>
                <a:ext cx="2881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a-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и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непрерывной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еры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гда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граничена в некотор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a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в некоторой окрестности точ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значения функции положительны или отрицательны вместе 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еры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+     + 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· 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/ 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и услов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0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же непрерывны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a) =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прерывна в то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(x) = g(f(x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же непрерывн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09C2B-0CBE-40E7-9E50-D7CCCC53C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граниченная последовательнос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 сверху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 снизу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ограниченной, 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е 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88D7F-056A-41E2-A942-7BC982BEB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еорема Больцано-Кош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Больцано-Коши о промежуточном значен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, непрерывная на отрезке, принимает на его концах значения разных знаков, то на отрезке есть точка, в которой функция обращается в но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ми словами,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[a, 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непрерывна и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a) · f(b) &l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: f(c) = 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[a, 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 непрерывн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a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, B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: f(c) = 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C5D77-867C-4355-834F-FB662A381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еорема Вейерштрасс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Вейерштрасса о максимальном значении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, непрерывная на отрезке, ограничена на нем. При этом на отрезке есть точка, где функция принимает максимальное значение, и есть точка, где функция принимает минимальное значени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4C63A-6C94-498A-8E9D-1C62E06C7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предела последователь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окрестность предела последовательности содержит все члены последовательности, за исключением конечного их чис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не может иметь двух различных предел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ходящаяся последовательность ограничен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A0F0E-6F7F-4941-9FA4-D699D96C4C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арифметические опер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числовые последовательности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х суммой называется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х произведением называется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, то их частным называется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B8127-789F-4A55-B6A4-9042DDB428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арифметические опер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числовые последовательности. Если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                    , т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8F093-C84B-4E9D-B81D-2A84A8883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047600" y="2282760"/>
                <a:ext cx="1724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3027240" y="2282760"/>
                <a:ext cx="1694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932040" y="3235320"/>
                <a:ext cx="3605040" cy="24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неравен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числовые последовательност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                 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&lt;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й но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,  ч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мма «о двух милиционерах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числовые последовательности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й но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,  ч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≤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эт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35451-21A3-4F55-A7D0-C2A8B373C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71840" y="2293920"/>
                <a:ext cx="1724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6199200" y="2293920"/>
                <a:ext cx="1693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543560" y="4321080"/>
                <a:ext cx="310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1568520" y="5106960"/>
                <a:ext cx="1789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едел и неравен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числовые последовательности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                   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й но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,  что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≤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≤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≤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≥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≥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arenR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≥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77E7-AA05-4337-9E9A-939F737E2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371840" y="2293920"/>
                <a:ext cx="1724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199200" y="2293920"/>
                <a:ext cx="1693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ритерий Кош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вая последовате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ходится тогда и только тогда, когд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, n &gt; N |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lt;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овательность с таким свойством называется фундаментальной или последовательностью Кош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92E8-82D7-42F1-B367-B539CC299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8-01-11T13:05:53Z</dcterms:modified>
  <cp:revision>196</cp:revision>
  <dc:subject/>
  <dc:title>Информатика</dc:title>
</cp:coreProperties>
</file>