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29A-0604-428D-ACBB-5F1207E3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D9F-8022-43BD-8AE4-96999E5B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690-746C-497A-AE82-5D488B0D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722-9416-42BF-99B9-10927E69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9E7-8931-4C5C-A9B8-EC4C9996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877-29D4-4710-B97A-E011D4C8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F20-DB70-4EB5-A56C-9A993990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F15-78A6-45F8-A47F-E3FAC036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548-CA6A-4970-9666-EBA75BBA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39B-F0A9-466F-AA5A-F129286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EDC-6AC4-49FD-920E-2418D72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375-2D06-4D52-9CAB-2AD3E399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3EE-21C1-47CE-82A6-F5FEB99181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1BD-22C4-471F-BDA4-F171B9AE5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55044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Математический анализ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A4BD-BCCD-4494-8EBD-3A269675C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Объект 5"/>
              <p:cNvSpPr txBox="1"/>
              <p:nvPr/>
            </p:nvSpPr>
            <p:spPr>
              <a:xfrm>
                <a:off x="2139840" y="1825560"/>
                <a:ext cx="7910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3</m:t>
                                            </m:r>
                                          </m:e>
                                        </m:rad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Объект 5"/>
              <p:cNvSpPr txBox="1"/>
              <p:nvPr/>
            </p:nvSpPr>
            <p:spPr>
              <a:xfrm>
                <a:off x="1433520" y="3483000"/>
                <a:ext cx="932328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а интеграл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свойства интеграла, можно представить интегралы 9-12 из таблицы интегралов в более общем ви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267-6B2E-4A6A-8EEE-BA932001E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Объект 5"/>
              <p:cNvSpPr txBox="1"/>
              <p:nvPr/>
            </p:nvSpPr>
            <p:spPr>
              <a:xfrm>
                <a:off x="824040" y="2968560"/>
                <a:ext cx="527184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,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Объект 5"/>
              <p:cNvSpPr txBox="1"/>
              <p:nvPr/>
            </p:nvSpPr>
            <p:spPr>
              <a:xfrm>
                <a:off x="6351480" y="2968560"/>
                <a:ext cx="539748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eqArr>
                      <m:e>
                        <m:r>
                          <m:t xml:space="preserve">[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ctg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,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а интеграл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CB93-BE9F-4150-A17A-A87840330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Объект 5"/>
              <p:cNvSpPr txBox="1"/>
              <p:nvPr/>
            </p:nvSpPr>
            <p:spPr>
              <a:xfrm>
                <a:off x="3146400" y="2144880"/>
                <a:ext cx="5899320" cy="33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по частя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x), v = v(x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торые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формулы производной произвед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v)’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’v + v’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ледует, что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v)’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’vdx +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’ud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интеграл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uv)’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войств дифференциа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’dx = du, v’dx = d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 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du +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v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образуя, получаем формулу интегрирования по част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v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d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FB0B-91B1-40C8-A93F-68A567DDD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по частя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от метод стоит в том случае, если вычисление интеграл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d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ще, чем вычисление интеграл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v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тип функций, которые удобно интегрировать по частям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(x) sin x, P(x) cos x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льный многочле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нтегрировании функций данного типа 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взять многочле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FB5-1999-4827-87FE-FB8FBB620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4112-9476-4BA7-8E22-E17690EFB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2800440" y="1647720"/>
                <a:ext cx="65898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1812960" y="3125880"/>
                <a:ext cx="8566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Объект 5"/>
              <p:cNvSpPr txBox="1"/>
              <p:nvPr/>
            </p:nvSpPr>
            <p:spPr>
              <a:xfrm>
                <a:off x="1263600" y="4102200"/>
                <a:ext cx="966492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Объект 5"/>
              <p:cNvSpPr txBox="1"/>
              <p:nvPr/>
            </p:nvSpPr>
            <p:spPr>
              <a:xfrm>
                <a:off x="3506760" y="5510160"/>
                <a:ext cx="5178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по частя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тип функций, которые удобно интегрировать по частям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 ln x, P(x) arcsin x, P(x) arccos x, P(x) arctg x, P(x) arcctg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льный многочле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нтегрировании функций данного типа 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взять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, arcsin x, arccos x, arctg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cctg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590E-5114-4A4B-9178-9F29504F0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89A2-F380-4DD7-A5EF-39D2AB142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5"/>
              <p:cNvSpPr txBox="1"/>
              <p:nvPr/>
            </p:nvSpPr>
            <p:spPr>
              <a:xfrm>
                <a:off x="1765440" y="1233360"/>
                <a:ext cx="8659800" cy="20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  <m:r>
                              <m:t xml:space="preserve">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Объект 5"/>
              <p:cNvSpPr txBox="1"/>
              <p:nvPr/>
            </p:nvSpPr>
            <p:spPr>
              <a:xfrm>
                <a:off x="3114720" y="3506760"/>
                <a:ext cx="5960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по частя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тий тип функций, которые удобно интегрировать по частям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 x,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так называемые циклические интегр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4A9C-BA27-4D05-927B-C8EE891C5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мена переменн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))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))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(t)d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9E65-566C-4ED2-8D4B-AE4499BB6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Объект 5"/>
              <p:cNvSpPr txBox="1"/>
              <p:nvPr/>
            </p:nvSpPr>
            <p:spPr>
              <a:xfrm>
                <a:off x="1735200" y="2962440"/>
                <a:ext cx="8721720" cy="26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аты контрольны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контрольная по теме «Неопределенный интеграл» ориентировочно состоится 21 ма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контрольная по теме «Определенный интеграл» ориентировочно состоится 25 апр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контрольная по теме «Ряды» ориентировочно состоится 6 ию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CED-88E7-450B-9297-4B5F37647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рациональных функц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(x) = P(x) / Q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роизвольные многочл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(x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ая часть от дел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алгебры известно, что в поле действительных чисел любой многочлен раскладывается в такое произве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EEF-C9C2-43FF-9549-8BB81C1F6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Объект 5"/>
              <p:cNvSpPr txBox="1"/>
              <p:nvPr/>
            </p:nvSpPr>
            <p:spPr>
              <a:xfrm>
                <a:off x="2273400" y="4614840"/>
                <a:ext cx="87040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5"/>
              <p:cNvSpPr txBox="1"/>
              <p:nvPr/>
            </p:nvSpPr>
            <p:spPr>
              <a:xfrm>
                <a:off x="2043000" y="3168720"/>
                <a:ext cx="951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етод Остроградског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многочле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кратные корни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Д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’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Q(x) /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deg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– 1, deg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deg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–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3A3F-AE3A-4FF7-8F9E-7EC4DF6546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Объект 5"/>
              <p:cNvSpPr txBox="1"/>
              <p:nvPr/>
            </p:nvSpPr>
            <p:spPr>
              <a:xfrm>
                <a:off x="3700440" y="2798640"/>
                <a:ext cx="47894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иррациональных функц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дынтегральная функция содержит выражение в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, полаг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78B2-2F62-4ECE-B744-9F755547B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Объект 5"/>
              <p:cNvSpPr txBox="1"/>
              <p:nvPr/>
            </p:nvSpPr>
            <p:spPr>
              <a:xfrm>
                <a:off x="5375160" y="2305080"/>
                <a:ext cx="144000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5"/>
              <p:cNvSpPr txBox="1"/>
              <p:nvPr/>
            </p:nvSpPr>
            <p:spPr>
              <a:xfrm>
                <a:off x="5192640" y="3635280"/>
                <a:ext cx="1806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Объект 6"/>
              <p:cNvSpPr txBox="1"/>
              <p:nvPr/>
            </p:nvSpPr>
            <p:spPr>
              <a:xfrm>
                <a:off x="5192640" y="4768920"/>
                <a:ext cx="18064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становки Эйл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ынтегральную функцию иррационального вида можно привести к рациональной функции, используя следующие заме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AE27-A06B-4B7D-A27C-3EF2E3176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5"/>
              <p:cNvSpPr txBox="1"/>
              <p:nvPr/>
            </p:nvSpPr>
            <p:spPr>
              <a:xfrm>
                <a:off x="1886040" y="3206880"/>
                <a:ext cx="842004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игонометрические подстанов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дынтегральной функции иррационального вида можно избавиться от иррациональности, используя следующие заме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559-7D17-476C-A221-20444362D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5"/>
              <p:cNvSpPr txBox="1"/>
              <p:nvPr/>
            </p:nvSpPr>
            <p:spPr>
              <a:xfrm>
                <a:off x="3747960" y="2832120"/>
                <a:ext cx="4695840" cy="27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t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  <m:r>
                          <m:t xml:space="preserve">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t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t xml:space="preserve">t</m:t>
                        </m:r>
                        <m:r>
                          <m:t xml:space="preserve">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rPr>
                            <m:lit/>
                            <m:nor/>
                          </m:rPr>
                          <m:t xml:space="preserve">t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t</m:t>
                        </m:r>
                        <m:r>
                          <m:t xml:space="preserve">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ловия Чебышев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, 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циональные числа. Интеграл ви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ется чере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чную комбинацию элементарных функций только в следующих случая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целое числ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m + 1)/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целое числ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m + 1)/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целое чи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0282-6458-4A36-A6F7-5B2287650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Объект 5"/>
              <p:cNvSpPr txBox="1"/>
              <p:nvPr/>
            </p:nvSpPr>
            <p:spPr>
              <a:xfrm>
                <a:off x="4749840" y="2379600"/>
                <a:ext cx="2690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ловия Чебышев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ом случае следует сделать за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именьший общий знаменатель чисе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тором случае следует сделать за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+ b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атель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ретьем случае следует сделать за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b =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атель чис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E3FD-45B9-46FB-9628-2C92B6835F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игонометрические интеграл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дынтегральной функции встре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четная степень, 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представить их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·sinx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·cosx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ть за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= sin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ответствен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дынтегральной функции встре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етная степень, 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воспользоваться формулами понижения степен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81D0-113D-40EF-9588-C40E6D33A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Объект 5"/>
              <p:cNvSpPr txBox="1"/>
              <p:nvPr/>
            </p:nvSpPr>
            <p:spPr>
              <a:xfrm>
                <a:off x="3154320" y="4807080"/>
                <a:ext cx="5883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2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2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Т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й интеграл, содержащий тригонометрические функции, можно привести к интегралу от рациональной функции, используя универсальную тригонометрическую подстановку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 = tg x/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случа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90F-2970-4112-8C62-97198DDAF2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Объект 5"/>
              <p:cNvSpPr txBox="1"/>
              <p:nvPr/>
            </p:nvSpPr>
            <p:spPr>
              <a:xfrm>
                <a:off x="2840040" y="4002120"/>
                <a:ext cx="65120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d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382480"/>
            <a:ext cx="105156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1. Неопределенный интегра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5148-D95E-4224-AEC5-DE777A47D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образна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ервообраз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ифференцируема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=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2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ее первообразной будет являтьс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это не единственная первообразная. 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1 также будет первообразной для 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83AC-FF8B-47E8-AB8B-52C3662BC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образна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две первообразные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их раз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стоянное чис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первообразна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все остальные первообразные этой функции можно представить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+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конста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всех первообразных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неопределенным интегралом и обозначается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некоторая первообразна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+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еопределенная конста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45F-50C6-4DA0-964E-A8FE64707B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а интеграл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таблицы производных легко получить таблицу интегралов элементарных фун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9BF9-82A4-4218-9BEF-17F6061423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Объект 5"/>
              <p:cNvSpPr txBox="1"/>
              <p:nvPr/>
            </p:nvSpPr>
            <p:spPr>
              <a:xfrm>
                <a:off x="1106640" y="2540160"/>
                <a:ext cx="420516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5"/>
              <p:cNvSpPr txBox="1"/>
              <p:nvPr/>
            </p:nvSpPr>
            <p:spPr>
              <a:xfrm>
                <a:off x="6326280" y="2697120"/>
                <a:ext cx="4014720" cy="35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а интеграл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F864-26E3-480E-9B1B-3A2346013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Объект 5"/>
              <p:cNvSpPr txBox="1"/>
              <p:nvPr/>
            </p:nvSpPr>
            <p:spPr>
              <a:xfrm>
                <a:off x="3103560" y="1608120"/>
                <a:ext cx="5586480" cy="45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sin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cos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,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ctg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,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±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интеграл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)’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(x)+g(x))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 +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d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d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формуле производной слож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(kx + b))’ = f’(kx + b) · (kx + b)’ = k · f’(kx + b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ервообразна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kx + b)dx = F(kx + b)/k +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B3C-D65B-4796-99C3-9D8D9AB04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ислит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 таблице интеграл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и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2C6-7A70-4217-8CFA-50192332A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Объект 5"/>
              <p:cNvSpPr txBox="1"/>
              <p:nvPr/>
            </p:nvSpPr>
            <p:spPr>
              <a:xfrm>
                <a:off x="3867120" y="3336840"/>
                <a:ext cx="44578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Объект 5"/>
              <p:cNvSpPr txBox="1"/>
              <p:nvPr/>
            </p:nvSpPr>
            <p:spPr>
              <a:xfrm>
                <a:off x="5848200" y="2170080"/>
                <a:ext cx="25416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7-02-13T16:03:59Z</dcterms:modified>
  <cp:revision>451</cp:revision>
  <dc:subject/>
  <dc:title>Информатика</dc:title>
</cp:coreProperties>
</file>