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49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EA8FDF-FEBF-4258-B19A-A37BE3FC23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265885-7380-4BB1-9BAE-42CCD88E7B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EDA73-68E3-4AFD-84B3-D808143170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8A5D6D-BA44-4FFD-911E-4F143431A2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E8FAD4-F29E-4F6E-A57E-7713D6DD49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11AA2B-B598-4B23-B52D-88F7AA774E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790904-6FA2-4A13-8985-749B0367143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727A2E-2354-4E88-A43B-1331EC7D9E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AF2CF9-8F18-4D1A-9BA6-36589035AE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9608AA-FDE1-4E07-9A75-392ADF5916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441E46-3627-4021-9016-D93DF68389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FC51A3-B5E4-4F18-B4AC-61255F3442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A4E2B4-BFE8-4C96-BA11-49E17B9ABD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330DF-B68B-46AB-A77B-AF45D788C1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4B20C2-D899-4ED9-831C-2F8CA5BCE6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99742-9F4A-4EE9-A07A-4B8AF53182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A279FD-E157-49EF-9B5A-C8C08149B4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3A728E-B9A1-4538-BF28-D2DB648E8D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07EC57-B570-48AC-B0BE-A184AB9627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77264B-046C-424A-A6C4-53F58BD953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E7DE8F-FC09-4DCB-A14E-F241D955BE8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508AAD-B7D6-4DF9-A8C6-104EB90919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F07F10-1E0D-471D-8172-410FE44FD0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CB393D-3F2B-496C-9949-382D7DF65D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1D6338-37DF-4C6D-BD1A-2CDB2A688E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6E3542-B1BC-49ED-BFDB-D0895DD3C2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B2374D-35DC-449E-A58A-47C084F37A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ABDB98-F00B-4414-9A42-4699739436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AEDF45-AEC2-40B4-A183-FA9D14CD03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B53D56-2ED3-4343-BBEE-326E96314F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EF1493-13BF-48CA-99D5-16E0F39186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978C-4C11-471E-99A7-7B26AC2A6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0E91-549D-4067-B06E-6B57DC1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F8DA-B32F-4592-8A82-1402E80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8683-58D4-4BF5-BAEB-EBCA6C7E68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362A-DA42-4B0E-AD82-5D22CA3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8945-A18E-4346-9EC9-27D69DFE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978A-EBEB-4466-A6FD-DAF2343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29DE-5AFB-4E91-9837-DE5A8416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2C46-7A0D-43BF-9ABF-0D2706BD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D879-4EF7-4B33-90C3-78D9C115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61CD-6D81-48D0-B829-646B919F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F25B8-F5BF-400C-804A-ED25B142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04.04.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4CDFAF-C2CF-48BC-9A5D-DC42479EB5B9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523880" y="5508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атематический анализ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 Рима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838080" y="1690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учаем предел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о понимать, что только стремл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бесконечности не достаточно. Ведь мы можем, например, разбить интервал на 2 половины, а затем дробить до бесконечности только одну половину. Тогда количество отрезков будет бесконечно увеличиваться, но нужное нам точное значение предела мы не получим, поскольку на оставшейся половине приближение будет очень грубо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2AF473-010F-4F4E-AF23-20B73253B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4624560" y="1995480"/>
                <a:ext cx="29430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</m:eqAr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 Рима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38080" y="1690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строенный нами предел существует, то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ируемой по Рима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сам пред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алом Рима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 функци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обозначаетс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95A09-07DC-461A-9539-ABC8482AF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5423040" y="3429000"/>
                <a:ext cx="13460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уемые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всех функций, интегрируемых по Риману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означаетс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нтегрируема по Риману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]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пишу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будем использовать термин 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ируем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, подразумевая «интегрируемость по Риману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18ECB1-1303-4B69-9B7E-22005329A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обходимое условие интегрируем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необходимое условие интегрируемости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того чтобы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пределенная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была интегрируема на этом отрезке, необходимо, чтобы эта функция была ограничена на этом отрез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только ограниченная на отрезке функция может быть интегрируема на этом отрезке, но не все ограниченные функции интегрируе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004B8-D789-4B95-A5CC-31066B5CE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остаточные условия интегрируем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достаточное условие интегрируем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пределенная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прерывна на этом отрезке, то эта функция интегрируема на этом отрез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меет место влож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[a, 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достаточное условие интегрируем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пределенная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ная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епрерывна на этом отрезке почти всюду (т.е. всюду, кроме, быть может, конечного числа точек), то эта функция интегрируема на этом отрез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155E06-9BBA-4F6D-9EFD-F7BCC6742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остаточные условия интегрируем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верждение (достаточное условие интегрируем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пределенная на отрез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онотонна на этом отрезке, то эта функция интегрируема на этом отрез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критерий Лебег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, определенная на отрезке, интегрируема по Риману на этом отрезке тогда и только тогда, когда она ограничена на этом отрезке и непрерывна почти во всех его точках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5645B6-5714-4D02-8478-707ACF386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линейность интеграл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, 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,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ℝ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+g(x), C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E614FA-3FB4-454D-94C5-C0087A55A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262320" y="2808360"/>
                <a:ext cx="56656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4405320" y="4030560"/>
                <a:ext cx="33814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аддитивность интеграл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&lt; b &lt; c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c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,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b, c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21E7C7-1A29-46B9-B1D2-DCF450D81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905280" y="2809800"/>
                <a:ext cx="43815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с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войства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же имеют место следующие свойств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87838E-E254-4558-8A1F-58DE676AC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4546440" y="2425680"/>
                <a:ext cx="3098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5141880" y="3753000"/>
                <a:ext cx="190836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ценка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f(x)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праведливо неравенств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эт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f(x)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≤ С, то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5A9B41-8AD2-43A2-807C-A4CACA506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546440" y="2413080"/>
                <a:ext cx="30988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4546440" y="4325760"/>
                <a:ext cx="300528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838080" y="1641600"/>
            <a:ext cx="105156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2. Определенный интегра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F87151-5990-481F-8313-6B7E6589A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онотонность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, 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справедливо неравенство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 1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309B0C-2322-4B07-829D-A9128C298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4624560" y="2728800"/>
                <a:ext cx="29430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3809880" y="4826160"/>
                <a:ext cx="457200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онотонность интегра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, m = inf f(x), M = sup 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m, M]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[a, b]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C9E409-B6B2-44D5-A64E-D5DFE43C2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4670280" y="2808360"/>
                <a:ext cx="28497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4483080" y="4784760"/>
                <a:ext cx="32259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вая теорема о средне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первая теорема о среднем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, m = inf f(x), M = sup 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меняет свой знак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m, M]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ствие: Если в условиях теорем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[a, b]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E82F0E-86F3-4854-87AB-A99E5A6AE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4200480" y="3008160"/>
                <a:ext cx="378936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μ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4014720" y="4786200"/>
                <a:ext cx="4164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</m:e>
                    </m:d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Вторая теорема о средне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вторая теорема о среднем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отонная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функция, то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a, b]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равенство также называют формулой Бонн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38F5AA-E397-4B5C-8B05-D34C29A86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979720" y="2593800"/>
                <a:ext cx="623088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ξ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ξ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переменным предел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838080" y="1690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Интегралом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еременным верхним преде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ывается функ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м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непрерывн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ифференцируема в точ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’(x) = f(x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B30F30-A2F9-4901-80F1-2048E9F1C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4998960" y="2584440"/>
                <a:ext cx="21924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Формула Ньютона-Лейб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 (формула Ньютона-Лейбница)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любая из первообразных функ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b) – F(a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значается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C373C3-669D-475E-BE2C-CA2C7FC7D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4437000" y="2701800"/>
                <a:ext cx="33177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6638760" y="4138560"/>
                <a:ext cx="1033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ирование по частя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ула интегрирования по частям в определенном интегра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A27A32-7B4D-46DD-96C8-8FE8C5BA8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4562640" y="2467080"/>
                <a:ext cx="30668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мена переменно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орем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)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рерывно дифференцируемое, строго монотонное отображение отрез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отрез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BA5174-FFCB-448D-BB42-D3C4644DA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4168800" y="3133800"/>
                <a:ext cx="38527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β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φ'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ложения интеграла: площад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щадь криволинейной трапеции, ограниченной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ерху, функцие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(x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изу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ям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рям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ощадь криволинейного сектора, ограниченно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ярных координатах крив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= f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полярными радиусами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исляется по формуле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C764D-FA4F-4887-B17D-6A44EEF09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560840" y="3029040"/>
                <a:ext cx="30704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794120" y="5168880"/>
                <a:ext cx="26020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β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φ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лина дуги криво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гладкая кривая задается уравнение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длина дуги кривой, заключенной меж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 =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гладкая кривая задана в параметрической форме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 =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длина дуги кривой, заключенной меж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ками 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) и 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ϕ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),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D8134-FA09-433D-885B-D70E6A0BD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4530600" y="2595600"/>
                <a:ext cx="3132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106880" y="4892760"/>
                <a:ext cx="3978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α</m:t>
                        </m:r>
                      </m:sub>
                      <m:sup>
                        <m:r>
                          <m:t xml:space="preserve">β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φ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ψ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м движение физического тела. Для простоты полагаем, что это материальная точка, которая движется вдоль числовой ос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мещение точки описывается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ая указывает координату точки в момент време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скорость точки описывается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t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курса дифференциального исчисления мы помним, ч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t) = s’(t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DAF862-D8AC-4E41-AD80-133D3884A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ъем тела вращ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дана криволинейная трапеция, ограниченная функци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сь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вертикаля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 = 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Тогда объем тела, образованного вращением этой криволинейной трапеции вокруг ос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м тела, образованного вращением этой криволинейной трапеции вокруг ос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1FAAE0-AED0-4054-8748-321E0254E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809960" y="3405240"/>
                <a:ext cx="25704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4732200" y="5348160"/>
                <a:ext cx="272592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в начальный момент време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очка находится в координат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(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далее мы получаем данные только о скорости движения точки, то есть знаем функцию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нам узнать, какое примерно расстояние прошла точка за период времени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бы скорость была постоянная, мы воспользовались бы формулой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– s(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умножив скорость на врем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что, если функц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константа? Ведь в реальности скорость постоянно меняе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DF213E-DECB-48F7-A5D1-10C8706E1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в этом случае найти приближенное расстояние, логично разбить промежуток времени на небольшие части и посчитать расстояние в каждой части отдельно, приняв скорость за постоянную внутри каждого кусочк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тем сложить полученные знач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я скорости внутри каждого отрезка можно выбирать совершенно случай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2C532B-13EB-455E-9121-C4F21C861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ы можем получить знач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t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хотим узнать, какое расстояние прошла точка за 60 секунд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обьём участ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0, 60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апример, на 3 интервал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0, 20], [20, 40], [40, 60]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ерем произвольное значение скорости на каждом из этих промежутков. Например, пу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10) = 2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/с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(30) = 6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/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v(50) = 10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/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на первом участке времени расстояние примерно равно 20 ∙ 23 = 460 м, на втором 20 ∙ 63 = 1260 м, на третьем 20 ∙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0 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е расстояние примерно 3780 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56F14-ADD2-4005-AB49-B51A1A337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анном примере мы разбили промежуток на равные интервалы, но интервалы могут быть совершенно произвольны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для того, чтобы уточнить значение, нужно разбить промежуток на большее число меньших интервал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м больше мы возьмём интервалов, тем точнее будет наше примерное значени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3CD380-98AA-4C05-B0E4-4EBD94A7B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становка 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используя значения скорости (т.е. производной) на промежутке мы получили разность между значением расстояния (т.е. первообразной) в конце и в начале промежут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лина кусочков, на которы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разбили интерва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«кси») – произвольная точка внутри каждого такого интерва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и есть понятие определенного интегра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162E41-ABE7-4D16-938C-4D105CF24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4097160" y="2997360"/>
          <a:ext cx="3999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7160" y="2997360"/>
                    <a:ext cx="3999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нтегральная сум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введем понятие интеграла математически строг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функ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пределена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Разобьем отрез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a, b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сочков точкам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… &lt;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b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ждом кусочке выберем по точке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–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Обозначим чере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Δ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–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ин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 кусочка. Состави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альную сумм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увеличиваем число кусочков, но так, чтобы длина наибольшего кусочка при этом стремилась к 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E7B1A-188D-47FD-A8D9-DFBF79D86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5172120" y="3875040"/>
                <a:ext cx="1847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20-11-08T14:10:41Z</dcterms:modified>
  <cp:revision>467</cp:revision>
  <dc:subject/>
  <dc:title>Информатика</dc:title>
</cp:coreProperties>
</file>