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48F31-03E1-4CFA-AE10-9678F7E1AD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1051092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825560"/>
            <a:ext cx="1051092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6080"/>
            <a:ext cx="1051092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E739C-8DE3-482D-B235-2C03F81C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1051092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825560"/>
            <a:ext cx="512928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3680" y="1825560"/>
            <a:ext cx="512928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6080"/>
            <a:ext cx="512928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3680" y="4096080"/>
            <a:ext cx="512928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091E0-26C5-4A8E-AD18-173AC3AB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1051092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825560"/>
            <a:ext cx="338436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1640" y="1825560"/>
            <a:ext cx="338436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5560" y="1825560"/>
            <a:ext cx="338436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6080"/>
            <a:ext cx="338436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1640" y="4096080"/>
            <a:ext cx="338436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5560" y="4096080"/>
            <a:ext cx="338436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294C4-4451-4C55-B464-1BDD8CFC2B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1051092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825560"/>
            <a:ext cx="1051092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873CF-D002-486E-9379-1548FF29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1051092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825560"/>
            <a:ext cx="1051092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5F2D8-3BAF-4224-BE8B-33935AD9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1051092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825560"/>
            <a:ext cx="512928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3680" y="1825560"/>
            <a:ext cx="512928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66814-7EC6-4F92-BED1-A6203BA6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1051092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E4770-1147-47E1-9598-493EADE33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7720" y="364680"/>
            <a:ext cx="1051092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0F932-9EC7-4D53-A6F8-2F29DECDA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1051092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825560"/>
            <a:ext cx="512928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3680" y="1825560"/>
            <a:ext cx="512928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6080"/>
            <a:ext cx="512928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97A5F-C489-4CA7-BF88-31F470AB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1051092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825560"/>
            <a:ext cx="512928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3680" y="1825560"/>
            <a:ext cx="512928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3680" y="4096080"/>
            <a:ext cx="512928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2F27E-D464-425C-BFE3-AD94A07C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1051092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825560"/>
            <a:ext cx="512928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3680" y="1825560"/>
            <a:ext cx="512928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6080"/>
            <a:ext cx="1051092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084B7-953E-4427-A670-63CF8C81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1051092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825560"/>
            <a:ext cx="1051092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7720" y="6356160"/>
            <a:ext cx="27385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4.10.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610120" y="6356160"/>
            <a:ext cx="27385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DB1486-9737-4F45-941F-02BABD0E19D0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550800"/>
            <a:ext cx="914400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 Light"/>
              </a:rPr>
              <a:t>Математический анализ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4844880"/>
            <a:ext cx="91440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банов Александр Николаеви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.ф.-м.н., доцент кафедры кибернет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перации над множеств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имметрической разностью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ножеств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ываетс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ножеств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l-GR" sz="2800" spc="-1" strike="noStrike" baseline="8000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состоящее из тех элементов, которые содержатся только в множеств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ли только в множеств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l-GR" sz="2800" spc="-1" strike="noStrike" baseline="8000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 = { x |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ли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l-GR" sz="2800" spc="-1" strike="noStrike" baseline="8000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 = (A\B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(B\A) 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)\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∩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р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1, 2, 3, 4, 5}, B = {4, 5, 6}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гд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l-GR" sz="2800" spc="-1" strike="noStrike" baseline="8000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 =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, 2, 3, 6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536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53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B590AC-F58D-403E-908E-CA98A011E3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перации над множеств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екартовым произведением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ножеств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ывается множеств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состоящее из упорядоченных пар элементов, первый член которых есть элемент из множеств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а второй – элемент из множеств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 = { (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) |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 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ножеств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=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азывается декартовым квадрат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р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1, 2, 3}, B = {4, 5, 6}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гд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 =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), (1,5), (1,6), (2,4), (2,5), (2,6), (3,4), (3,5), (3,6)}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гд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=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(4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), (4,2), (4,3), (5,1), (5,2), (5,3), (6,1), (6,2), (6,3)}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536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53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7A9A49-8D89-495B-81B5-219AA2465F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войства операций над множеств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 = 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A 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коммутативность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∩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∩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коммутативность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C 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C) 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ассоциативность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∩B)∩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 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∩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∩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) 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ассоциативность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)∩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 =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∩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∩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) 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дистрибутивность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∩B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C =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∩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C) 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дистрибутивность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\(BUC) = (A\B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∩(A\C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закон де Морган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\(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∩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) = (A\B)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\C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закон де Морган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53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53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53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53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801A6-7E3B-4056-8039-7E821B058C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войства операций над множеств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A = 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∩A = 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\A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l-GR" sz="2800" spc="-1" strike="noStrike" baseline="8000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= 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∩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\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l-GR" sz="2800" spc="-1" strike="noStrike" baseline="8000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53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53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53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5F378-745C-480A-B0D4-DF2697F72C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войства операций над множеств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B =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∩B = 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\B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l-GR" sz="2800" spc="-1" strike="noStrike" baseline="8000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 = B\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F16AB9-80E3-473B-B9CB-483F73FDA6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войства операций над множеств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39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) = (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)∩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A∩C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B∩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53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09CDF-0D29-4BA7-BA01-88E9CB8ABB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четные множе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тверждение 1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Бесконечное подмножество счетного множества счетн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тверждение 2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Объединение конечного или счетного числа счетных множеств счетн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множество конечно или счетно, то говорят, что оно не более чем счетн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им образом, не более чем счетное объединение не более чем счетных множеств не более чем счетн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66D8A-6BC2-4A41-A534-EA3E892ED2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четные множе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A8C0A4-321E-4E0F-BFB7-637F401663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тверждение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ℤ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 = |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ℕ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ℤ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0, 1, –1, 2, –2, 3, –3, …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тверждение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ℚ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 = |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ℕ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юбое рациональное число можно представить в вид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/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гд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ℤ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ℕ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НОД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= 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жно упорядочить все рациональные число по возрастанию величины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m|+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А числа, для которых эта величина равна, можно упорядочить по возрастанию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четные множе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0 = 0/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1 = – 1/1, 1 = 1/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/2, 1/2,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/3, 1/3,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5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/2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/3, 2/3, 3/2,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им образом, можно пронумеровать все рациональные чис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CA51FD-533C-4434-92B9-6E80D73F36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Несчетные множе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орема Кантора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 &gt; |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ℕ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щность множества действительных чисел называется мощностью континуу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орема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0, 1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53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C27353-C163-42C0-BB3D-5AAE082DB2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Множе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нятие «множество» относится к базовым неопределяемым научным понятия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ножество может состоять из любых различимых объект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ножество однозначно определяется набором составляющих его объект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юбое свойство определяет множество объектов, которые этим свойствам обладаю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53461-D097-4668-A819-DB20C6FFA7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нцип математической индук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исловое множеств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ывается индуктивным, есл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 x+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им образом, ℕ – наименьшее индуктивное множество, содержащее 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нцип математической индукции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Если подмножеств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ℕ таково, что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  x+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 =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ℕ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т принцип используется для доказательства гипотез о натуральных числ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0534F3-B17C-494D-BD17-7269F6B974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нцип математической индук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аза индукции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Доказываем, чт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ипотеза верна при некотором начальном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 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 правило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 = 1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едположение индукции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редполагаем, что гипотеза верна при некотором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ℕ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Шаг индукции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Доказываем, что гипотеза верна пр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+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им образом, мы получаем, что гипотеза верна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ℕ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C99EA-EB4B-4962-B8B8-FB11F86D99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Эквивалент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ножеств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ываются эквивалентными, если существует биективное отображени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означение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~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ношение эквивалентности обладает следующими свойствам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флексивность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 ~ 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мметричность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~ B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 ~ 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анзитивность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~ B, B ~ C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 ~ C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юбое отношение, обладающее этими свойствами, можно назвать эквивалентность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14C56-ADCC-4253-8CFF-EEBC22E0D0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Компози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: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, g: 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Z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функции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позицией этих функций называется 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◦f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g(f(x)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◦f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уществляет отображени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Z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р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g(x) = si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гд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◦f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◦g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x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им образом, видно, что операция композиции не коммутативна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◦g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◦f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5B7A5D-3120-41C2-B18B-3D4A20B062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dur="indefinite" fill="hold">
                      <p:stCondLst>
                        <p:cond delay="indefinite"/>
                      </p:stCondLst>
                      <p:childTnLst>
                        <p:par>
                          <p:cTn id="1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Компози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им ассоциативность композиции на примере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(x) = si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1/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◦g)◦h = (si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x)◦h = si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1/x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◦(g◦h) = f◦(sin 1/x) = si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1/x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им образом, операция композиции ассоциатив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множестве всех функций существует тождественное отображение – это отображени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удовлетворяющее свойству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◦id = id◦f = f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отображени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(x) = 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941E06-B2CB-4A6E-A1CC-044F48D265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тная функ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–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азывается обратной к функ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: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ес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◦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–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–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◦f = i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ры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 = sin x, g(x) =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h(x) = 1/x, id(x) = x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–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x) = arcsin x, 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–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x) =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,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–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x) = 1/x, i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–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x) = x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81772B-4147-4571-AF0F-884147CAC0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Точные гра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исл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ывается нижней границей множеств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ℝ, если           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X a ≤ 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ибольшая из нижних границ называется точной нижней гранью или инфимумом множеств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Обозначаетс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 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исл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ывается верхней границей множеств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ℝ, если           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X b ≥ 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именьшая из верхних границ называется точной верхней гранью или супремумом множеств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Обозначаетс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 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9CCF5-1A96-4594-863E-FD61BC1028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Элементы множе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= {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| P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а запись означает, что множеств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остоит из всех объектов, которые обладают свойств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ъекты, составляющие множество, называются его элемент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лемент множеств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говорят «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ринадлежи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» и пишут «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аче говорят «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е принадлежи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» и пишут «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B47C75-C981-4925-8437-22B0A46F45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тношения множест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множеств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остоят из одних и тех же элементов, то эти множества равны. В этом случае пишут «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= 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любой элемент множеств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является элементом множеств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говорят «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лежит в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» или «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ключает в себ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пишут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». В этом случа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азывается подмножеством множеств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н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говорят, что включение строгое. В этом случа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ывается собственным подмножеств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лежит в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ли совпадает с ним, то пишут «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312BB9-482C-4EF2-B7EB-4A25B8AFC5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тношения множест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множеств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остоят из одних и тех же элементов, то эти множества равны. В этом случае пишут «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= 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любой элемент множеств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является элементом множеств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говорят «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лежит в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» или «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ключает в себ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пишут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». В этом случа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азывается подмножеством множеств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н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говорят, что включение строгое. В этом случа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ывается собственным подмножеств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лежит в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ли совпадает с ним, то пишут «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2A1F0-37EE-45DD-B8BF-A151AEA1D5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тношения множест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.о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 = B &lt;=&gt;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означение «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lt;=&gt;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» или «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итается «тогда и только тогда, когда» или «в том и только в том случае, есл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ножество, не содержащее в себе элементов, называется пустым множеством и обозначается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0F7128-3DD5-4E31-99D9-940FE8ED3E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перации над множеств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ъединение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ножеств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ываетс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ножеств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состоящее из тех и только тех элементов, которые содержатся хотя бы в одном из множест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 = { x |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 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р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1, 2, 3, 4, 5}, B = {4, 5, 6}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гд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 =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, 2, 3, 4, 5, 6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F7F94-569F-4A3B-85F0-6069E4D861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перации над множеств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есечение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ножеств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ываетс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ножеств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∩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состоящее из тех и только тех элементов, которые содержатся одновременно в множества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∩B = { x |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 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р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1, 2, 3, 4, 5}, B = {4, 5, 6}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гд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∩B =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, 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9B6970-9668-49EB-823F-DBA1F8AE85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перации над множеств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зностью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ежду множеством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множеством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ываетс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ножеств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\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состоящее из тех элементов множеств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которые не содержатся в множеств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\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 = { x |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 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\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азывается дополнением множеств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 множеств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р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1, 2, 3, 4, 5}, B = {4, 5, 6}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гд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\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 =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, 2, 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\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=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6}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53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67EF0-C8A6-4965-85E2-F2762F1B32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1T10:52:45Z</dcterms:created>
  <dc:creator>Александр Кабанов</dc:creator>
  <dc:description/>
  <dc:language>en-US</dc:language>
  <cp:lastModifiedBy>Александр Кабанов</cp:lastModifiedBy>
  <dcterms:modified xsi:type="dcterms:W3CDTF">2016-09-04T10:16:34Z</dcterms:modified>
  <cp:revision>193</cp:revision>
  <dc:subject/>
  <dc:title>Информатика</dc:title>
</cp:coreProperties>
</file>