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685440" y="1142640"/>
            <a:ext cx="5481720" cy="30812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400640"/>
            <a:ext cx="548172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000"/>
            <a:ext cx="29667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CD0E5-9CFA-4A37-9438-445F2F9D6A8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D229D-5635-44DD-9EF3-B9C6549B94A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11A0D-870B-487A-A600-D1837EDEDCE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45264-5CC7-41BC-A04E-24B7AAF47A2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892C3-43DB-47E7-B968-B3E4D8BB8AE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00751-F2B4-41BD-957F-194E4E7B245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9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9BB3E-1A59-4BD3-952C-298C44CB5CB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53C1B-85BF-41B3-8B6F-299BC1AC9AC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3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36CFF-6D03-4209-9244-E0614044D1C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4BD81-0553-4E52-8D0D-2D311EB5A78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7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5DEBA-5CF1-4673-A7E7-F54DE4197CD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994F2-E9C5-4279-B8D9-0975A3EE478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1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B3154-6BB1-45F4-8632-8BBCF91882F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7B23D-B8DA-40CF-BF82-A6B3143F416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5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222D7-BAFC-4F15-A2C7-87B0C02693B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8DA59-F67B-468A-BB65-4619A53CFC3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9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9C2A2-BD23-4241-9FA8-4D15EDB8968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F5A0D-F321-4E48-8A90-3F985E5F262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3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5B345-75C3-4A5A-B794-27C2E50157F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4F93F-CCE6-432C-8548-EB3DCDE6EBA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7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4CDB2-762A-42BB-AFE4-F467D8C7A80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E5217-4120-403B-B7FA-19DD6F70C2D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76983-24EB-41F4-89FA-07F05EBE9F3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26509-99CC-4043-90C8-8CE6544BF44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8F4C7-1096-4E63-89CB-15018A9B65F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5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6A664-AB70-4533-86AC-A41F829B107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1ED5F-782E-4B82-9A48-B65258A6BEF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9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10CDD-3157-469F-B5FF-01DEB78724D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A04B0-3EEA-4C5D-AC75-8F77C56AC54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D8662-D8F7-482A-8E6A-CCE985D8E79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E2EF6-5043-42FF-B1C6-ADB7B55F7D0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8D309-77EB-4E04-8D97-902550C617F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05C9D-E67C-4CA5-9184-5810D58351B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1C8E7-B0BA-4639-BF24-B0FE70EE554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700DD-18CD-4E0C-8B83-2FD2E55B5EE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CDC2A-3A07-4385-BDE0-BCD70ED42BE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8F46C-D95D-4946-A818-7FA4C263B29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9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E275C-C441-4497-A05D-6AC2EE9996F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39E93-1ABD-4AAC-A726-949ACE08629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C6314-7CF9-4EE4-A260-FE8F29F8ECE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30CF9-60A9-4819-B8ED-ED01EFFF1F1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7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038CD-2B69-41DD-A63E-75DC4CA6612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ED579-125A-4328-80AE-8015A6A0A56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1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09ED5-181C-49A7-A505-F1CAFCDE181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8FBB4-259A-49B4-BC9A-AA4CF1A9056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C5D43-3BF8-46A0-A205-BFFDBE80F42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A992B-8C8A-4993-ABDB-9396119664F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DC036-6209-4031-ACFA-EEB2241EDF6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CE0D7-F243-43C7-B9CF-04055E660F6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45DAC-CC67-4294-87C1-9A064FD990E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3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C9B86-08D2-40C2-A352-95061AB9CFD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1077F-40BA-45C9-90EF-4207C39283D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7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F1340-221A-432F-BF2E-F81CEED83F1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32947-2808-484F-AF70-53A79899476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1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33A05-1573-4E6C-BE67-84C2DFF93E8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A75E2-6D71-4E06-9C20-E11345CB3AB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5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D26CE-B9EE-451B-8942-D0B7A3767B0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F9624-375A-426D-B8D7-06D3CC82880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9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B963D-C2D6-467A-B813-CF01ECA04B4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5D0B5-2181-43F6-B354-7C881F0933A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3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7EBBA-E353-4253-9694-9F659DA3237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B0840-451B-41F4-9C50-7E2926804DB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7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5A9C5-4DB0-4D1E-AEAC-5347BE80419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BA5B2-27A2-4870-BCF1-B3B3F5A05A4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1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010D8-2C9E-4003-BA5B-AC4686590C6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09848-3C8F-4B93-8B52-4FDB6E565A1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CB456-E79E-4389-B48F-4F038599A3F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5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AFE16-F931-4BEB-86F3-7EE78B77AB2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F0A8D-DEF1-4801-84CB-7910B3EA7C0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45A3F-BE5B-40AB-AA5D-FB45676CE10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8C306-8BD5-4B4E-8D6A-59AC1E25C84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3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5F2A4-F7DF-41E0-A4AB-8BC0BAB00EC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FFB80-BE85-48FB-9939-FAC22E9D889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7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FA376-286B-48D9-AC90-F3E8CFF3470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E83A6-E816-4027-BD8B-2D07ADDB116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1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8CC05-0106-49D6-B542-90663C1C495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D7F94-69D0-42B5-87E3-E10964B5336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925FF-3A05-4513-8367-1D2310BFE4D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F19AF-33C8-4194-8EA0-85A766675DC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AF6BF-5D7E-4474-AA5F-BD8A0059F31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EDC47-E407-4681-9A9E-3275795D60E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6439B-092E-4B96-8F70-10199B7BAB3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F8BC8-5E92-45CA-8645-52CF5D4073C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FB876-793D-4C9E-B5EA-1239D9C49CC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4AF0E-72C9-412C-9BBE-F3C53A501AC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A582A-9B60-4475-A16C-52D2BD289C2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28487-EBF5-4CD3-985B-1D74DCC2F98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53378-A89E-47B9-8B88-DDE2890F0C3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101EF-D57D-4FDB-8CBA-ADCE2259009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63B76-4582-48A6-8665-7770DE75305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174AF-B1AD-4DA9-8987-A8578CF643C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A770F-BB90-44B2-AE4C-19256AEE451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12397-E3BF-43B9-BC85-B02F901CA0F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3C01C-C14F-40B5-B7BC-9C5F400DBA8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0E983-13A7-4611-B79E-9FA7D598567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2A6AB-D628-4368-860E-05B6B0B30A5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04DE9-8AC6-47DF-AB2A-08465094E19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FB1CD-A9F4-402C-8134-675CFAC19CA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3A22F-2FC7-494A-AB92-0AECA626AED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4C63F-7D45-46BB-963E-3C0C6312D7E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2A40B-999A-4DAB-98AE-ECD935EC2FF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B3A70-5CFC-49D5-A002-2FEB563DFDD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FD8F4-ED53-4B09-B64A-C4E6144F8CE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13C3D-15C8-4E9C-8CF2-A532D136EA8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7661F-96DA-4544-A074-14317202E87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0ECF5-47ED-4FFF-B636-FB48DAD15A6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7042B-BF50-4A24-AF9F-32604C12EDB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35204-A8A8-401F-B698-9E79005D410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E6498-5682-4C6D-9E82-C33C70DFB2C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98545-C150-49CC-AA46-638550AC288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C1279-F96E-42E5-9D4B-6CA81AF2FF5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F2A25-A025-46BE-AB41-22F0372423F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602AD-C3CE-4286-8B02-C5E008F6716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C6641-3C57-4230-9914-C7479273D93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0296F-2BD3-4B85-AC68-27ADDC6875D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51361-FA08-423D-A94E-1FA25F4B698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758EC-76C5-4EA8-8CA9-3D656DF6558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D22BE-3B9F-4B69-B258-6E44B00FEDA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E6E1E-9AC9-461C-80C5-7DC7AC24091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55D1F-AA36-483D-A1AD-42B6C11095D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5FF22-E6E4-4C8A-B73A-AE597A36A5E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3E304-5A9C-42D3-AA0C-DCC09D63800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58F32-6AB2-4BE5-89B8-4B4EC4D555B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921E4-C82E-4A60-84F9-46B7B4E2627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0373C-DA97-4094-A6E8-5CD1777A338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3A60D-7BE4-418C-B129-31AA05647B4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486D3-8B44-4D22-B720-37754DD6B43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5253A-8B97-4608-8E0C-648A9386E39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64C7B-1ABF-41A0-9C37-F4CCC0468F5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ACCB1-A1AD-4EBC-B346-0AF5D4BF470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03B82-DD97-44ED-8C00-FF3E83B8A5D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B9997-1649-48B6-AF4B-9C823EA3BFA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8F244-FAE4-4B93-A1DC-B76FF1CB78E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46302-A5E8-44D1-A34B-4D5E667E1E2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CA618-70A2-4807-A38F-38F6A9B9CC3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601C1-AE8F-4ED8-99B8-E057B8608B6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B0A83-6B5B-4A3C-B85A-355142985F8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C0964-B06C-4C4A-8AFC-5DBDF63D700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A8AD7-712D-4371-A0E9-C6D3C2F934A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BB99D-027F-4D76-B24C-CD9AA504AED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3EF06-D87E-4827-A77F-FCD7E3F65BD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2A3A2-B943-42DF-9B24-5A39BD21747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25146-F8F4-4586-B51F-CE2CD369939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C2603-EFE1-45F3-97DF-FA170FBF330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2E3E9-3CC7-4B87-8477-A2E216B01CA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AE19C-7FC0-43F7-BB59-4E6EF43EFE7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D05C8-3B8A-4A57-927E-CC1D0CCAD2F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BAD6A-C679-436D-9CC9-268A223F0C4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A4048-8E34-4177-9110-10A93D15C10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66E1A-2778-4105-BBF8-03150077D4F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1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D8D4B-0E29-4EB4-AFF1-05C695EF81F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45A77-9607-44FA-B1DB-1461373FE18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5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4D808-F204-4FA1-96F7-6C34012CE80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0D970-055B-4086-ADA8-4844C4587E5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9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24A98-DBCB-4B9D-959B-8FEBA04AAA5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4B400-0B1C-4004-9B0B-F49E58D6D8B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E17BA-175E-4F09-A803-9965F83EC1D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C21D6-B089-4411-AFF1-C2635C2535E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CA3D0-0D22-4DB2-9D6A-52BE22AB712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00223-B73F-4D46-840D-882F61B800F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902A3-26D4-40A5-BC8D-B820B4C265F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22C7B-DD9B-4036-95DF-A2A9E07DFE2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62E0F-2301-4103-9387-CF01A98EA36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360B7-1CAE-4322-BFFC-B9559F9F4BE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DFB15-53D4-422C-BCB8-19243530A4D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CBD22-79A5-46BE-8871-5B7FC597697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9A3FD-F562-4E82-9A04-59197B4F216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3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E633F-8EF7-45BE-A56F-B83A1CB4EFE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E5ECF-6158-4EF9-ACAA-F1E285667CD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9D260-CF29-45C3-9620-0AD4F8503E9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86635-60FE-4849-82F8-D1FF2966FA0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1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A6979-A96B-4E79-A015-2CB2196055E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25662-C796-4CDA-988C-75368088102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5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7D456-E807-4522-A5DF-86104390483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6563C-39C3-4D3F-9425-7D844118DF7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6BC19-FDDF-4206-B9B5-1694FF9C7EF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5D190-5591-41B5-B643-152D253AA5A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9EA3A-D49D-41A1-9481-B1BD7C92533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87967-8746-4771-A2D9-6A259360A4F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7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8323D-A7B9-4D18-881D-0B77DA2AC24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0EB8E-36B2-4FF2-81E5-D4FC66F368B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6E8F9-6EB1-4A60-A401-AAFDCD763E4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98EE7-487A-4B7B-913F-A7D6034B9F1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A5A6A-DA72-402F-B5A9-602765D64D1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83055-3158-4879-93AD-8117263362B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6696F-F8ED-4AD1-9916-0BA536F8DAD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9C7FE-D78E-43A1-95CE-B84F3750A7A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C95B2-C53B-49CA-A515-76144968AF8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207E5-EB5A-4796-920E-7A04182081D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8CA7A-A6C0-4BBB-9959-FB1D82D806E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ACB74-A44F-490A-A578-F6FFEB141E2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1690A-E938-40A9-B7B6-74031A2D78B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1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64836-6836-4D5B-9CB8-FF9ED9F6BF9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FF86C-A57E-4F1F-AF13-7C33B73CD4E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A7A88-13E0-47EC-B743-DC7364F4665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E38F1-2D47-4549-9482-7A861BFA7F5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9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18B5D-F575-4D76-83EE-65672052CAD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D6D72-ACA3-4C53-9E54-293CD519857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3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4C06E-115B-4730-8C32-E815DCC05F9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2317F-D3EA-402A-9EA2-904F7F00588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7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92451-718F-4E33-B721-96698946F25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12E0D-9284-43B0-BE10-35889B0CFD5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1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56D23-4389-428C-BF5C-097C9E09F4B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9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1496D-D40B-49DE-887F-8F459255AC6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78711-9FA6-4BE4-9A78-71A0F24582C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5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2EDC9-752B-44A6-A89B-743943C76EB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64234-10AD-43C0-A5F3-3EC6800DB92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9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B6292-A953-477E-9A92-25435D60301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EDD87-8811-4AF3-A011-79660669C83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3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9A146-82C5-4382-944A-F56A9F8247D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088AF-22FE-4A15-90FB-BEF1ACF05EE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7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3E41E-7B69-4E05-A5EC-486855F19CC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400C2-D758-4CB8-A42E-6A1487A2384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1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7B6DD-F8FC-444A-92AC-A19643F766A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60067-044C-458B-9933-F50E4DFAF8C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5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3307F-2765-42EB-A3B0-4CB2BCD9A6F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71E1E-FF52-4A29-A51C-1727514935D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9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CDB26-2280-4660-AFAC-6F3FB80685B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55CBB-F983-499D-B51E-7D4F9D53305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3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DC133-7F75-4653-8F99-7DDFAF976C1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3B9A1-4DD9-4251-90D3-987AA88D0E2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7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0C31C-62BA-413F-9516-5F9962F2EA4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11"/>
          <p:cNvSpPr/>
          <p:nvPr/>
        </p:nvSpPr>
        <p:spPr>
          <a:xfrm>
            <a:off x="3884760" y="8685360"/>
            <a:ext cx="2966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51399-0F9B-4933-B815-DCD0044D5D9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1" name="Text Box 1"/>
          <p:cNvSpPr/>
          <p:nvPr/>
        </p:nvSpPr>
        <p:spPr>
          <a:xfrm>
            <a:off x="3884760" y="8685360"/>
            <a:ext cx="2965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8D336-A99E-42BA-B0D4-15CD9F1F68E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5A669-3CB0-4260-9898-9DED1D9BFD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05109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825560"/>
            <a:ext cx="1051092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6080"/>
            <a:ext cx="1051092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065E2-F71B-4A73-A867-301754DF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05109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825560"/>
            <a:ext cx="512928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3680" y="1825560"/>
            <a:ext cx="512928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6080"/>
            <a:ext cx="512928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3680" y="4096080"/>
            <a:ext cx="512928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139EA-C715-426C-98B5-09CF3B4A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05109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825560"/>
            <a:ext cx="33843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1640" y="1825560"/>
            <a:ext cx="33843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5560" y="1825560"/>
            <a:ext cx="33843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6080"/>
            <a:ext cx="33843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1640" y="4096080"/>
            <a:ext cx="33843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5560" y="4096080"/>
            <a:ext cx="338436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7098D-CECF-438E-9EE2-4679DB5593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05109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825560"/>
            <a:ext cx="1051092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2408D-FA3B-4793-ADD6-D1E44FAB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05109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825560"/>
            <a:ext cx="1051092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2FA38-B6C0-47CA-B043-8B718E5A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05109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825560"/>
            <a:ext cx="512928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3680" y="1825560"/>
            <a:ext cx="512928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EFBC6-A993-4387-80F1-1ACF239D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05109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D7B38-C500-4EA7-84C5-3EF65BDA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364680"/>
            <a:ext cx="1051092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84438-5761-43D0-B133-D374DA7A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05109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825560"/>
            <a:ext cx="512928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3680" y="1825560"/>
            <a:ext cx="512928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6080"/>
            <a:ext cx="512928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814B6-3839-45E7-9574-39E1A7CA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05109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825560"/>
            <a:ext cx="512928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3680" y="1825560"/>
            <a:ext cx="512928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3680" y="4096080"/>
            <a:ext cx="512928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2F57B-A101-488E-B1D5-9E765697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05109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825560"/>
            <a:ext cx="512928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3680" y="1825560"/>
            <a:ext cx="512928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6080"/>
            <a:ext cx="1051092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351FB-D929-4638-859B-5D3E804A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105109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1051092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356160"/>
            <a:ext cx="2738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2.02.1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10120" y="6356160"/>
            <a:ext cx="2738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D75B1-E6FF-4B2D-8D96-35340009C53F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1523880" y="550800"/>
            <a:ext cx="914400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 Light"/>
              </a:rPr>
              <a:t>Моделирование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523880" y="4844880"/>
            <a:ext cx="9144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банов Александр Николаевич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.ф.-м.н., доцент кафедры кибернети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которые СЧ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1 – текущее значение условного времен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Pi – значение i-го параметра активного транзакт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X$&lt;имя ячейки&gt; или Xi – значение ячейки с указанным именем или указанным номеро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 – время пребывания в модели активного транзакт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V$&lt;имя переменной&gt; – вычисленное значение переменной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RNi – случайное число в диапазоне 0-999, i – номер датчика случайных чисе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A1240-3B74-4E91-A546-04ED01ACED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аблиц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описания таблицы используется блок TABLE. В поле метки этого блока задается имя таблицы, в поле A — аргумент таблицы в виде СЧА (исследуемая случайная величина). В поле B указывается верхняя граница первого частотного интервала, в поле C — ширина интервалов, а в поле D — их число, включающее оба полубесконечных интервал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необходимо исследовать время, проводимое транзактом в очереди, то используется блок QTABLE, в поле A которого указывается имя очереди, время нахождения в которой нас интересует. Остальные поля аналогичны блоку TAB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3E46B-AC6D-4701-A3B4-69A0AB8379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аблиц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, если нас интересует гистограмма времени, проводимого одним транзактом в очереди LIN, то мы можем описать таблицу следующим блоком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BL QTABLE LIN,10,20,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F8AFF-3C29-45A2-8E04-D9DB19E0F3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аблиц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таблица описана, то транзакты могут фиксировать в ней информацию с помощью блока TABULATE. В поле A этого блока указывается имя таблицы, в которой накапливается информаци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входе транзакта в блок TABULATE вычисляется значение аргумента указанной таблицы и определяется, в какой из интервалов таблицы это значение попадает. После этого счетчик соответствующей интервальной частоты увеличивается на 1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используется блок QTABLE, то блок TABULATE не нужен, вычисление искомой характеристики в этом случае происходит автоматическ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6DDD5-531F-4AA4-8544-AEB1EE8FBB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Логические переключател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огические переключатели могут находиться в двух положениях: «включен» и «выключен». Перед началом выполнения программы все переключатели устанавливаются в положение «выключен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работы с логическими переключателями используется блок LOGIC. При поступлении транзакта в блок состояние логического переключателя, номер или имя которого указан в поле A, меняется в соответствии со следующей мнемоникой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74576-569E-42A6-835E-B0682A56BE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Логические переключател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212400" indent="-2124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LOGIC R 1 — логический переключатель с номером 1 устанавливается в состояние «выключен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2400" indent="-2124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LOGIC S 1 — логический переключатель с номером 1 устанавливается в состояние «включен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2400" indent="-2124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LOGIC I 1 — состояние логического переключателя с номером 1 инвертируетс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2400" indent="-2124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ояние логического переключателя может быть проверено в любой части модели с помощью блока GATE или с помощью СЧА LS$&lt;имя логического переключателя&gt;, который принимает значение 1, если логический переключатель «включен», и 0 — в противном случа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8118D-7B01-4B06-AFAE-CFC5C9CB67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спортный стол работает с 9 до 18 часов с перерывом на обед с 13 до 14 часов. Посетители приходят в среднем каждые 5 минут, причем все сначала направляются к начальнику паспортного стола, который работает с каждым посетителем в среднем 4 минуты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начальника примерно 5% посетителей покидают отделение (получен отказ либо вопрос решен), а остальные направляются в отдел прописки, в котором работают три паспортистки. Время приема посетителя в отделе прописки равно в среднем 12 минутам (с каждым посетителем). Время прихода и время обслуживания в системе распределено экспоненциальн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41D9E-7854-4F16-A06B-2A594C3AE9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 посетители, кто стоял в очереди и не успел обслужиться до обеда, обслуживаются после перерыва в первую очередь. Будем считать, что во время обеденного перерыва никто не приходит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но за полчаса до окончания рабочего дня просят не занимать очередь к начальнику паспортного стола, и подошедшие в это время посетители не обслуживаютс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ить, успеют ли все посетители, стоящие в очереди, обслужиться до конца рабочего дня. Протабулировать время нахождения посетителей в очередях к начальнику паспортного стола и в отдел прописк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70A75-7105-43E0-A369-80BAA47CCF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PROP STORAGE 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AB1 QTABLE OCH_NACH,10,10,1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AB2 QTABLE OCH_PROP,10,10,1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RAZN VARIABLE N$VXOD-N$UXOD ;количество посетителей, которые встали в очередь, но не успели обслужиться до конца рабочего дн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A6438-2279-4BAF-A5DE-332F2AF0C5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838080" y="15112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работа начальника паспортного стол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GENERATE (EXPONENTIAL(1,0,5)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GATE LR TIME,FIN ;если рабочий день закончился — уход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VXOD QUEUE OCH_NA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GATE LR OBED ;ожидание окончания обед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SEIZE NA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DEPART OCH_NA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DVANCE (EXPONENTIAL(1,0,4)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RELEASE NA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RANSFER .05„UXO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F0AF2-12BB-4D40-9771-CB4BF21DFC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работа отдела прописк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QUEUE OCH_PRO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GATE LR OBED ; ожидание окончания обед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ENTER PRO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DEPART OCH_PRO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DVANCE (EXPONENTIAL(1,0,12)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LEAVE PRO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UXOD TERMIN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FIN TERMIN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13A28-3107-439A-9A61-095AC43A43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Блоки и операто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блок языка записывается в отдельной строке и имеет следующую структуру: [метка] операция [операнды] [комментарии]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ое поле отделяется друг от друга пробелам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язательным является только поле операции, остальные поля могут отсутствовать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96D7E-A1E5-46C9-9A91-E0982A3CF2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838080" y="15843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GENERATE 240„,1 ; начало рабочего дн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LOGIC S OBED ; начало обед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DVANCE 6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LOGIC R OBED ; окончание обед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DVANCE 21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LOGIC S TIME ; за 30 минут до конца рабочего дн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DVANCE 3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SAVEVALUE NO_OBSL,V$RAZN ;подсчет не обслуженных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ERMINATE 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START 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69EC7-D79C-4EE2-BF8A-EAED66C15F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инхронизация транзакт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моделирования одновременного начала нескольких процессов предназначен блок SPLIT. В момент входа транзакта в блок SPLIT создается несколько копий этого транзакта. Число копий задается в поле 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копии переходят в блок, определенный в поле B. Исходный (порождающий) транзакт переходит к блоку, следующему за SPLI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оле C блока SPLIT пустое, то все копии идентичны породившему их транзакт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F9B4C-6584-4CF3-B953-8EAACA96F5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инхронизация транзакт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14560" indent="-2145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, при входе транзакта в блок SPLIT 4,NEXT порождается четыре транзакта, идентичных вошедшему, и передается в блок с меткой NEХТ. Породивший их транзакт передается в блок, записанный после блока SPLIT. Всего из этого блока SPLIT выходит пять транзакто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4560" indent="-2145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оле C непустое, то его значение интерпретируется как номер или имя параметра транзакта. Пусть N — значение этого параметра в момент входа транзакта в блок SPLIT. Тогда в момент выхода из SPLIT данный параметр у иcходного транзакта будет иметь значение N+1, а у копий транзактов соответственно N+2, N+3, ..., N+K, где K — общее число вышедших из блока SPLIT транзакто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D11B2-5C90-409F-86B3-3764D8C278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инхронизация транзакт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, если транзакт, имеющий нуль в десятом параметре, войдет в блок SPLIT 2,BLOCK,10 то параметр Р10 у этого транзакта приобретет значение 1, а у копий — соответственно 2 и 3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анзакты-копии могут двигаться в модели независимо друг от друга. Копии могут проходить блоки SPLIT и порождать новые копи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о, состоящее из исходного транзакта и всех его копий, называется семейством транзактов. Копия члена семейства является членом того же семейства. Т.о. любой транзакт — член только одного семейств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16CCB-E27A-445F-8018-65A3227A87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инхронизация транзакт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одновременного завершения нескольких процессов используется блок ASSEMВL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т блок собирает заданное в поле A число транзактов одного семейства и превращает их в один транзакт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й из транзактов какого-либо семейства, вошедший в блок, задерживается до тех пор, пока в этом блоке не накопится заданное число транзактов того же семейства. После этого первый транзакт выходит из блока ASSEMBLE, а остальные транзакты этого семейства уничтожаютс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D22D3-0C94-4FDE-9902-0D75533640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инхронизация транзакт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одном блоке ASSEMBLE могут одновременно проходить сборку транзакты, принадлежащие к разным семейства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, если в блок ASSEMBLE 4 поступают транзакты разных семейств, то транзакты каждого семейства собираются по четыре и каждая четверка превращается в один транзакт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3F533-C68C-40E2-9DFB-D23B3C88A2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инхронизация транзакт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ок GATHER работает аналогично блоку ASSEMBLE с тем отличием, что транзакты, попав в блок GATHER, не уничтожаются, а только задерживаются, и после того, как в блоке накапливается заданное число транзактов, они все переходят к следующему блок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AA207-DF39-49FB-A3A3-964395A672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инхронизация транзакт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05560" indent="-2055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ок MATCH предназначен для синхронизации процессо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05560" indent="-2055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 программе встречается этот блок, то обязательно где-то должен быть еще один такой же блок, но с другим имене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05560" indent="-2055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оле A блока указывается имя парного блока MATCH. Когда транзакт попадает в блок, определяется второй блок MATCH и проверяется, находится ли в нем транзакт этого же семейств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05560" indent="-2055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да, то транзакты выходят из обоих блоков одновременн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05560" indent="-2055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 парном блоке нет транзакта, то в первом блоке транзакт задерживается до тех пор, пока во второй блок не поступит транзакт этого же семейства. Т.о. можно синхронизировать передвижение транзактов по модел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9676F-871D-41F7-A8D3-09E7DA5962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инхронизация транзакт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05560" indent="-2055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ок MATCH предназначен для синхронизации процессо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05560" indent="-2055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 программе встречается этот блок, то обязательно где-то должен быть еще один такой же блок, но с другим имене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05560" indent="-2055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оле A блока указывается имя парного блока MATCH. Когда транзакт попадает в блок, определяется второй блок MATCH и проверяется, находится ли в нем транзакт этого же семейств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05560" indent="-2055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да, то транзакты выходят из обоих блоков одновременн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05560" indent="-2055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 парном блоке нет транзакта, то в первом блоке транзакт задерживается до тех пор, пока во второй блок не поступит транзакт этого же семейства. Т.о. можно синхронизировать передвижение транзактов по модел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99C33-D508-43C4-BE09-DED731A5A1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838080" y="15112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10240" indent="-210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моделировать сборку изделий рабочими А, В и С. Изделия в разобранном виде поступают каждые 200-400 мин. Каждое из них разделяется между рабочими А и В, которые параллельно готовят свою часть изделия к сборке. Подготовка состоит из двух фаз, причем после первой фазы производится сверка с одновременным участием обоих рабочих, а затем А и В независимо выполняют вторую фазу работы. На первой фазе рабочий А тратит на работу 80-120 мин, рабочий В — 60-100 мин; на второй фазе рабочий А тратит 45-55 минут, рабочий В — 60-100 минут. После окончания работы рабочими А и В рабочий С выполняет сборку изделия за 45-55 мин, причем он может начинать сборку только тогда, когда оба первых рабочих закончат свою работ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ACF42-9316-4139-A7BA-22B0D43712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ля блок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ка является именем-идентификатором блок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е операндов может содержать от 1 до 7 подполей: A,B,C,D,E,F,G, содержимое которых отделяется друг от друга запятой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ропуска одного из подполей поля операндов ставится просто запятая, например: A„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е комментария должно начинаться с символа «;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ментарии, кроме поля комментариев, могут быть заданы отдельной строкой: любая строка, начинающаяся с символа «*» или «;», тоже будет комментарие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761FE-BA95-44EE-B043-480DBDBA8F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838080" y="15112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GENERATE 300,100 ;поступление издели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SPLIT 1,MANB ;разделение издели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SEIZE RABA ;занять рабочего 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DVANCE 100,20 ; 1-я фаз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FAZ1A MATCH FAZ1B ;ждать, если В не закончил 1-ю фаз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DVANCE 50,5 ; 2-я фаз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RELEASE RAB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RANSFER ,MANC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F2987-4EE9-4FBA-9FA4-F87F3F9575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838080" y="15112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MANB SEIZE RABB ;занять рабочего B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DVANCE 80,2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FAZ1B MATCH FAZ1A ;ждать, если А не закончил 1-ю фаз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DVANCE 80,2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RELEASE RABB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DA3CA-FDF4-4ABE-B8A6-C817089E62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838080" y="15112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MANC ASSEMBLE 2 ;ждать обе части издел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SEIZE RABC ;занять рабочего C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DVANCE 50, 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RELEASE RABC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ERMINATE 1 ;завершение сборк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START 1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58862-AC08-4B49-952D-232A205147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хва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838080" y="15112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ок PREEMPT — захватить устройство. Транзакт, попадающий в этот блок, захватывает устройство, имя которого указано в поле A блок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ри захвате устройства оно свободно, то транзакт просто занимает устройство, в этом случае блок PREEMPT работает аналогично блоку SEIZ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BFE4D-D910-41AE-8157-60A9809D3A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хва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Text Box 2"/>
          <p:cNvSpPr/>
          <p:nvPr/>
        </p:nvSpPr>
        <p:spPr>
          <a:xfrm>
            <a:off x="838080" y="15112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ри входе транзакта в блок PREEMPT устройство занято другим транзактом, то в этом случае транзакт входит в блок PREEMPT, а устройство прерывает обслуживание занимающего его транзакта и переключается на обслуживание транзакта, вошедшего в блок PREEMP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160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этом из состояния «занято» устройство переходит в состояние «захвачено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6000" indent="-2160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транзакт, захватывающий устройство, освободит его, устройство возобновит прерванное обслуживание другого транзакта и перейдет в состояние «занято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C4544-FD8D-4AC9-827B-795F4F9C54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хва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838080" y="15112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рерываемый транзакт в момент прерывания находится в блоке ADVANCE, то, начиная с момента прерывания, отсчет времени пребывания транзакта в этом блоке прекращается до тех пор, пока не будет восстановлено обслуживание транзакт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в момент восстановления прерванного обслуживания транзакта время, оставшееся этому транзакту до выхода из блока ADVANCE, такое же, каким оно считалось непосредственно в момент прерывани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ое прерывание обслуживания называется прерыванием с последующим дообслуживание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76C70-CD1C-450F-AAEA-2C5822527A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хва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838080" y="15112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оме поля A, в блоке PREEMPT могут быть заданы операнды B, C, D и 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еранд B записывается в виде обозначения PR, задающего приоритетный режим работы блок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этом режиме транзакт захватывает устройство, если оно свободно или обслуживает менее приоритетный транзакт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рывание обслуживания менее приоритетного транзакта происходит с последующим дообслуживание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B76A9-53CF-45FC-A7BC-5CC5B020A7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хва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838080" y="15112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оле C может быть указана метка какого-либо блока, на который будет передан прерванный транзакт. При этом прерванный транзакт продолжает претендовать на данное устройств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6080" indent="-226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оле D блока может быть задан номер параметра транзакта. Тогда, если прерванный транзакт находится в блоке ADVANCE, то вычисляется остаток времени обслуживания (время дообслуживания), и полученное значение помещается в параметр, заданный в поле D. Прерванный транзакт при этом будет послан в блок, указанный в поле C. Прерванный транзакт продолжает претендовать на данное устройств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63AA7-531D-47D9-BF03-900B1B2307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хва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Text Box 2"/>
          <p:cNvSpPr/>
          <p:nvPr/>
        </p:nvSpPr>
        <p:spPr>
          <a:xfrm>
            <a:off x="838080" y="15112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 поле E блока записано обозначение RE, то прерванный транзакт больше не будет претендовать на данное устройств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оле E не задано, а поле C указано, то прерванный транзакт не может быть уничтожен до тех пор, пока он явно не освободит устройство. Чтобы не забывать явно освободить устройство, обычно поля C и E применяют одновременн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B2E94-96DC-4CA0-8EF5-B75DA2FA63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свобожде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Text Box 2"/>
          <p:cNvSpPr/>
          <p:nvPr/>
        </p:nvSpPr>
        <p:spPr>
          <a:xfrm>
            <a:off x="838080" y="15112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ок RETURN освобождает устройств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т блок используется в паре с блоком PREEMP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транзакт захватил устройство посредством блока PREEMPT, то освободить его он может только в блоке RETUR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я освобождаемого устройства задается в поле A блок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349C8-BED4-4EE4-88C1-F241E83D6E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Генерирова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ок GENERATE генерирует поток сообщений — транзактов, поступающих в систем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еменные интервалы между поступающими в систему транзактами определяются содержимым поля операндо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BD2A6-9836-4AAD-97D8-17DBCA2BE3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Цикл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Text Box 2"/>
          <p:cNvSpPr/>
          <p:nvPr/>
        </p:nvSpPr>
        <p:spPr>
          <a:xfrm>
            <a:off x="838080" y="15112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организации циклов используется блок LOOP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е A этого блока содержит имя или номер параметра, который выполняет функцию счетчика цикло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раз при поступлении транзакта в блок LOOP из указанного параметра вычитается единица, и полученная разность снова записывается в данный параметр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только значение параметра становится равным нулю, транзакт направляется в блок, следующий за блоком LOOP. Если значение параметра остается положительным, то транзакт направляется к блоку, указанному в поле B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233A1-3355-4EC9-91C3-8D4EFBE5FE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Цикл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838080" y="15112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, если необходимо, чтобы через блок ADVANCE все транзакты проходили по 10 раз, то этот процесс можно промоделировать следующим образом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SSIGN 1,1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FACIL ADVANCE 34,1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LOOP 1,FACI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29BC5-24F0-4B93-90E7-5352752D02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истемное врем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Text Box 2"/>
          <p:cNvSpPr/>
          <p:nvPr/>
        </p:nvSpPr>
        <p:spPr>
          <a:xfrm>
            <a:off x="838080" y="15112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ЧА С1 и АС1 хранится текущее значение системного времен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ЧА С1 содержит значение относительного системного времени (с момента последнего блока RESET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ЧА АС1 содержит значение абсолютного системного времени (с момента последнего блока CLEAR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нные СЧА доступны пользователю в любой точке программы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7DDDD-2C76-4F6D-9A4D-0639580A73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истемное врем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Text Box 2"/>
          <p:cNvSpPr/>
          <p:nvPr/>
        </p:nvSpPr>
        <p:spPr>
          <a:xfrm>
            <a:off x="838080" y="15112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транзакт при генерации снабжается отметкой времен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емя пребывания транзакта в модели содержится в СЧА М1 и MP и отсчитывается от момента рождения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1 = АС1 — &lt;дата рождения&gt;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ЧА М1 возвращает время пребывания транзакта в модели, СЧА МРi или MP$&lt;имя параметра&gt; возвращает значение, равное абсолютному системному времени минус значение соответствующего параметра транзакт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4B00F-AD99-4001-BACA-A63749FFB8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истемное врем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838080" y="151128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10240" indent="-210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Дату рождения», зафиксированную блоком GENERATE, можно изменить в любом месте программы, используя блок MARK с пустым полем 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0240" indent="-210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ок MARK с пустым полем A изменяет «дату рождения» на текущее системное врем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0240" indent="-210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 блоке MARK используется поле A, то в этом поле содержится номер или имя параметра транзакта. В этом случае транзакт сохраняет «дату рождения», а в указанном параметре записывается текущее значение АС1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0240" indent="-210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, работа блока MARK 10 эквивалентна работе блока ASSIGN 10,C1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1ED2A-E90E-4794-B573-75F70F7502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дполя GENERAT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 — среднее время между поступлениями транзактов в систему (по умолчанию равно 1)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B — модификатор времени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 — начальная задержка (время появления первого транзакта)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D — общее число транзактов, которое должно быть сгенерировано этим блоком (по умолчанию — неограниченное число транзактов)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E — приоритет транзакта, может принимать значения от 0 до 127. Приоритет возрастает в соответствии с номером (по умолчанию равен 0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B70EC-8A3B-447B-98B8-22F94448C7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Генерирова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 поле B может задано число, то для каждого временного интервала поступления транзактов длительность определяется как значение случайной величины, равномерно распределенной на интервале [A - B, A + B]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чение параметров A и B могут задаваться как константами, так и любым СЧА, за исключением СЧА параметра транзакта (эта величина в момент генерации транзакта еще не определена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DB76D-9ADB-436B-B6FF-2D9FA86C15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Генерирова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, блок GENERATE 10,5 будет генерировать транзакты через интервалы времени, длительность каждого из которых выбирается случайно в пределах от 5 до 15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ое из этих значений будет выбираться с одинаковой вероятностью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им образом, блок генерирует случайный поток транзактов, в котором время между транзактами равномерно распределено в диапазоне [A - B, A + B] и имеет среднее значение 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E3992-FBB4-42EE-826D-48BE36191D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Генерирова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рограмме может быть несколько блоков GENERATE. Все эти блоки работают параллельно и начинают генерировать транзакты одновременно с момента начала моделировани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помнить, что смысл единицы времени в языке GPSS (секунда, минута, час, день и т.д.) закладывает пользователь, поэтому при написании программы необходимо все операнды, связанные со временем, привести к единому масштаб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емя не может быть отрицательной величиной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08961-E794-4E96-A05D-1018D7180D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Уничтоже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ок уничтожения транзактов — TERMINATE. Обычно для простых программ это последний блок программы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анзакты, попадающие в этот блок, уничтожаются и больше не участвуют в процессе моделировани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икаких других действий этот блок не выполняет, если единственный возможный операнд A в блоке не задан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же операнд A задан, то его значение вычитается из счетчика числа завершений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еранд A может принимать только положительное целочисленное значени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A7FB3-99DE-4973-98B3-246785D35A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Уничтоже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оначальная величина счетчика устанавливается специальным управляющим блоком START и пишется в поле A этого блок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в результате входа очередного транзакта в блок TERMINATE значение счетчика становится нулевым или отрицательным, симулятор прекращает моделирование и передает управление программе вывода, которая распечатывает накопленные симулятором данные о модел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0EEB0-BC60-4293-BB77-FF188EBA20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Язык моделирования GP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GPSS (General Purpose Simulation System) — система имитационного моделирования общего назначени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язык моделирования, предназначенный для описания и исследования дискретных моделей систем массового обслуживания (СМО): системы обработки данных, системы транспорта и связи, технологические процессы, предприятия торговли, а также вычислительные системы и разного рода автоматизированные системы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ыл разработан IBM в СШ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A47D9-2730-4B75-A90D-7B1C0534C2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Уничтоже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ERMINATE 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START 1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есь через программу модели пропускается 100 транзакто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рограмме должен быть хотя бы один блок TERMINATE с заданным операндом 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 программе несколько блоков TERMINATE, то обычно операнд A задается только в одном блоке; чаще всего — в блоке, относящемся к имитатору интервала времени моделирования (таймеру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99667-654C-4C61-AF1C-A93C59C14E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ай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ймер служит для задания времени моделировани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ймер взаимодействует только с блоком START и никак не связан с содержательной стороной остальных фрагментов модел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GENERATE 48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ERMINATE 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START 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A5A90-BA1E-45A8-8FA9-97A0A3E625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держ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задержки транзактов на определенные интервалы времени предназначен блок ADVANC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язательный операнд A задает время задержки транзакт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язательный операнд B является модификатор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емени (разброс интервала времени относительно A – так же, как и в блоке GENERATE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CD195-6CDA-4480-9AD1-AE02A07B8D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держк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ой транзакт входит в блок ADVANCE беспрепятственно. В нем транзакт задерживается на период времени, величина которого определяется операндами A и B. После этого транзакт направляется к следующему блок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, ADVANCE 5,2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анзакт будет задержан на случайное время, выбранное из диапазона [3,7]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D66FA-A11E-405C-893B-0B9A3127F9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нятие устройств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входе транзакта в блок SEIZE выполняется операция занятия устройства, имя которого задается операндом 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транзакт направляется из какого-нибудь блока в блок SEIZE, симулятор проверяет, свободно ли соответствующее устройство. Если оно не свободно, транзакт не может войти в этот блок. Он остается в предыдущем блоке до тех пор, пока устройство не освободитс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же устройство свободно, то транзакт передвигается в блок SEIZE, занимает устройство и в тот же момент времени направляется к следующему за SEIZE блок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5116C-63B6-4AA0-8B00-156D95613C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свобождение устройств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входе транзакта в блок RELEASE происходит освобождение устройства, имя которого задается операндом 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вободить устройство может только тот транзакт, который его занимает. Если транзакт попытается освободить устройство, занятое другим транзактом, симулятор прервет выполнение модели и выдаст сообщение об ошибк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момент освобождения устройства должен быть решен вопрос о том, какой из задержанных транзактов перед блоком SEIZE имеет право первым занять устройств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A0FC1-9387-4E1B-8368-1B4D0DD426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свобождение устройств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транзакты задерживаются перед блоком SEIZE, они регистрируются симулятором в списке, где упорядочиваются по приоритетам: любой транзакт с более высоким приоритетом ставится впереди транзакта, имеющего более низкий приоритет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у двух транзактов одинаковые приоритеты, то они упорядочиваются между собой по времени прихода: впереди ставится транзакт, который раньше обратился к устройств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момент освобождения устройства его занимает тот из задержанных транзактов, который находится в списке первы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53936-9411-4379-B19F-0D90F4FC82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свобождение устройств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анзакт может занимать любое число устройст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вобождать занятые устройства транзакт может в любом порядк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1B13D-6FF0-4F56-A851-31AD8F3736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етители приходят в кассу кинотеатра через каждые 10-30 секунд, до 30 секунд занимает знакомство с обстановкой, после чего они занимают очередь. Каждый посетитель приобретает у кассира билеты, на что уходит от 15 до 25 секунд. Построить модель работы кассы кинотеатра в течение четырех часо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D5FBE-4424-41FA-BC25-0F33E4249C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838080" y="1825560"/>
            <a:ext cx="48499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*приход посетителе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GENERATE 20,1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*знакомство с обстановко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DVANCE 15,1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* обращение к кассир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SEIZE KA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*покупка билет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DVANCE 20,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53F99-D4E5-47CF-8F4C-3DB5558E95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335640" y="1800360"/>
            <a:ext cx="48499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*освобождение кассир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RELEASE KA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*уход посетител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ERMIN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GENERATE 14400  ;таймер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ERMINATE 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START 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GPSS Worl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рамма GPSS World разработана компанией «Minuteman Software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емая для лабораторных работ GPSS World Student Version является свободно распространяемой и ее можно скачать с официального сайта разработчика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www.minutemansoftware.co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E9276-6478-4046-9080-A764704110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черед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которые виды статистических данных накапливаются симулятором автоматически. Другие виды данных могут быть получены с помощью специальных блоко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входе транзакта в блок QUEUE он ставится в очередь, имя которой задается операндом 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чальный момент времени, когда очередь пуста, ее длина равна нулю. В момент входа транзакта в блок QUEUE ее длина увеличивается на величину, указанную в поле B. Если операнд B пуст, то длина очереди увеличивается на единиц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310AC-5B73-4C2D-B6D1-ADFE12447E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черед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входе транзакта в блок DEPART длина очереди, имя которой задается операндом A, уменьшается на величину, указанную в операнде B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использовании пустого поля B в блоках QUEUE и DEPART длина очереди в каждый момент времени соответствует текущему числу транзактов в этой очеред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анзакты могут проходить любое число блоков QUEUE и DEPART с произвольными значениями полей A и B, чередующихся в любом порядк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4E495-EC4B-4DA1-AF25-895BFB6BE1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черед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помнить, что данные блоки не влияют на реальное образование очередей транзактов, а служат только для сбора статистических данных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этому нужно следить за правильным расположением этих блоков, чтобы не получать отрицательные длины образуемых очередей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мулятор только подсчитывает статистику по очередям и не считает за ошибку отрицательные длины очередей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D9D17-805A-44CC-A55C-5364702A5A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838080" y="15843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198720" indent="-1987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GENERATE 20,1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98720" indent="-19872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DVANCE 15,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98720" indent="-19872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QUEUE OCH ; включение в очеред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98720" indent="-19872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IZE KASS ; обращение к кассиру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98720" indent="-19872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DEPART OCH ; выход из очеред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98720" indent="-19872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DVANCE 20,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98720" indent="-19872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RELEASE KA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98720" indent="-19872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ERMIN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98720" indent="-19872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GENERATE 14400 ; тайме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98720" indent="-19872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ERMINATE 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198720" indent="-19872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TART 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0CCD6-FEDE-46D1-B489-3AE75C69C5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черед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10240" indent="-210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этой модели момент включения каждого транзакта в очередь ОСН совпадает с моментом его обращения к блоку SEIZE, т. к. блок QUEUE выполняется в модельном времени мгновенн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0240" indent="-210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транзакт находится в очереди до тех пор, пока не займет устройство КАSS. Момент занятия устройства совпадает с моментом выхода транзакта из очеред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0240" indent="-210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данном случае очередь ОСН имеет естественную интерпретацию как очередь посетителей к кассиру, а длина очереди интерпретируется как число посетителей в очеред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0240" indent="-210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наличии в модели очередей симулятор выдает статистику по очередя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41C06-3896-421B-830E-75507D8B74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аэропорту производится регистрация пассажиров перед посадкой в самолет. На регистрацию подходят отдельные пассажиры через каждые 10-30 секунд либо туристические группы через каждые 40-80 сек. При этом туристические группы обслуживаются вне очереди. Время обслуживания подчинено экспоненциальному закону и равно в среднем для отдельных пассажиров — 15 секунд, для туристических групп — 25 секунд. Промоделировать работу отдела регистрации, изучив статистику по очереди за 2 ч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24185-E590-4D58-9544-BAF7E27BDC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GENERATE 20,10 ; приход отдельных пассажиров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QUEUE LIN ; включение в очеред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SEIZE RE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DEPART LIN ; выход из очеред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DVANCE (EXPONENTIAL(1,0,15)) ; регистрация пассажир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RELEASE RE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ERMINATE ; уход пассажир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6418F-0877-47DD-AB48-ADF163C4D8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838080" y="16239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194040" indent="-1940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GENERATE 60,20„,1 ; приход туристической групп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94040" indent="-1940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QUEUE L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94040" indent="-1940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SEIZE RE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94040" indent="-1940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DEPART L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94040" indent="-1940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DVANCE (EXPONENTIAL(1,0,25)) ; регистрация групп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94040" indent="-1940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RELEASE RE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94040" indent="-1940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ERMINATE ; уход групп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94040" indent="-1940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GENERATE 720 ; таймер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94040" indent="-1940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ERMINATE 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194040" indent="-1940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START 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D7F6B-390C-402D-9E68-F6C6B34219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ельные пассажиры и туристические группы встают в одну и ту же очередь и обслуживаются одним регистратором. Внеочередность обслуживания групп в модели обеспечивается заданием приоритета для транзактов, имитирующих туристические группы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рограмме три самостоятельных сегмента, каждый из которых начинается блоком GENERATE и заканчивается блоком TERMINATE. Они могут быть поставлены в программе в любом порядке. При этом процесс моделирования останется неизменным: все блоки GENERATE работают параллельн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29B30-2A0F-4100-9733-57EB791E38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тче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езультате выполнения модели на печать автоматически выводится информация о наличии транзактов в каждом блоке на момент завершения моделирования, а также информация обо всех устройствах, к которым производилось обращение в модел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AF4A7-72BD-487F-A039-8B350F5BC9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ранзакт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зык основан на схеме транзактов (сообщений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анзакт — формальный объект, который «путешествует» по системе (перемещается от блока к блоку), встречая на пути всевозможные задержки, вызванные занятостью тех или иных единиц оборудовани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анзакты имеют прямую аналогию с заявками в СМО. В качестве транзакта может выступать программа обработки информации, телефонный вызов, покупатель в магазине, отказ системы при исследовании надежности и т. д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5DF98-16CF-449F-B3B4-E99422B9B1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щая информация отчет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START TIME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бсолютное системное время на начало рассматриваемого периода. START TIME устанавливается равным абсолютному системному времени, определенному командами RESET или CLEA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END TIME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бсолютное системное время на момент окончания моделировани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BLOCKS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оличество блоков в программе, исключая блоки описани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FACILITIES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оличество объектов «устройство» в программ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STORAGES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оличество объектов «память» в программ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A7DE0-C83B-45F5-9726-EE97B9AB22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мена и блоки в отчет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NAME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пределенные пользователем имена, используемые в программ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VALUE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Числовое значение, присвоенное имени. Система присваивает значения именам, начиная с 10000. Исключение составляют имена блоков, им присваивается числовое значение в соответствии с порядковым номером в программ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LABEL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мя блока, которое ему присвоен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LOC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рядковый номер блока в программ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BLOCK TYPE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мя блока-оператора в GPS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1CE14-BAD4-4011-B930-E28444600F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Блоки в отчет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ENTRY COUNT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оличество транзактов, вошедших в данный блок с момента последнего RESET или CLEAR или с момента начала моделировани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CURRENT COUNT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оличество транзактов, находящихся в блоке на момент окончания моделировани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RETRY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оличество транзактов, ожидающих выполнения специфических условий, зависящих от состояния объекта данного блок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D93AA-7FF1-472C-B075-C35F09167B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Устройства в отчет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FACILITY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мя или номер объекта «устройство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ENTRIES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личество раз, которое устройство было занято, с момента последнего RESET или CLEAR или с момента последнего запуска модел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UTIL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редняя загрузка устройства за последний измеряемый период времени (доля системного времени, которое устройство было занято, от общего времени моделирования). Измеряемый период времени отсчитывается от начала моделирования или с момента последнего использования команды RESET или CLEA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F06EF-68AD-4249-84E3-53EEF1CB5E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Устройства в отчет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AVE. TIME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реднее время нахождения одного транзакта в устройств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AVAIL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остояние доступности устройства на конец моделирования. 1 означает, что устройство доступно, 0 — не доступн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OWNER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омер транзакта, который занимает устройство. 0 означает, что устройство свободн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PEND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оличество транзактов, ожидающих в очереди, чтобы занять устройство через блок PREEMP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7160E-7F99-49EC-A0F0-035EAC3152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Устройства в отчет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INTER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оличество транзактов, претендующих на устройство после прерывани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RETRY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оличество транзактов, ожидающих выполнения специфических условий, зависящих от состояния данного устройств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DELAY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оличество транзактов, ожидающих в очереди, чтобы занять устройство (включает транзакты, которые пытаются занять устройства через блоки SEIZE и PREEMPT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67B91-E25C-488A-8DC3-518A6A1639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зменение маршрут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ок TRANSFER позволяет осуществлять безусловные, статистические и условные переходы. Тип перехода определяется в операнде A, направление перехода — в операндах B, C и 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ежиме безусловного перехода операнд A в блоке пуст. Все транзакты переходят к блоку, указанному в поле B. Например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RANSFER ,NEX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блок, к которому направляется транзакт, в текущий момент системного времени не может его принять, то транзакт остается в блоке TRANSFER и повторяет попытку перехода при каждом пересчете системного времени симуляторо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C7B7A-1474-40D8-8E09-9EEC9990EE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зменение маршрут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1924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 поле A блока TRANSFER записана десятичная дробь, начинающаяся точкой, то блок работает в режиме статистического переход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924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десь десятичная дробь определяет вероятность перехода транзакта к блоку, имя которого указывается в поле C. При этом поле B пусто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924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вероятностью 1 — &lt;A&gt; транзакт переходит к блоку, следующему за блоком TRANSF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924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оба блока заняты, то транзакт остается в блоке TRANSFER и повторяет попытку перехода к выбранному ранее блоку при каждом изменении системного времен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A7BAC-C2EB-4E02-B290-4CAD538281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зменение маршрут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требуется разбить поток заявок более чем на два, необходимо внимательно рассматривать вероятности статистических переходов в модел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этом случае, если вы используете несколько блоков статистического перехода TRANSFER, для всех блоков, кроме первого, необходимо пересчитывать вероятности переходов с учетом того, что часть заявок уже была перенаправлена к другому блок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9DB3D-BE7C-44E8-BE91-2C9CE02A52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вестно, что поток покупателей в магазине разбивается на три потока (три отдела в магазине) следующим образом: 50% покупателей направляется в 1-й отдел, 20% — во 2-й и 30% — в 3-й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гда перенаправление транзактов будет происходить следующим образом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RANSFER .5„OTD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RANSFER .4„OTD2 ; 20% от оставшихся 50% — это 40%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RANSFER ,OTD3 ; все остальные — в 3-й отде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F20A7-4626-496A-AEE0-86EF48DC43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ранзакт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транзакт обладает совокупностью параметров, которые называются атрибутами транзакта. В процессе имитации атрибуты могут меняться в соответствии с логикой работы исследуемой системы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ое продвижение транзакта является событием в модел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мулятор регистрирует время наступления каждого из известных на данный момент событий и выполняет их с нарастающей временной последовательностью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DC79C-A5F1-46E3-B151-CD5C20C031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туация значительно усложняется, если проценты распределения заявок равны, например 17, 47 и 36. Чтобы упростить моделирование такой ситуации, можно построить дискретную функцию типа D, значением которой будут имена блоков, к которым должны направляться потоки заявок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RAN FUNCTION RN1,D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17,OTD1/.64,OTD2/1,OTD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затем можно обращаться к функции в блоке безусловного переход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RANSFER ,FN$TRA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3275A-2C16-430C-90E7-509D4B70B8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Условный перехо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жим условного перехода определяется мнемокодом, заданным в поле 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 поле A определено значение BOTH, то транзакт первоначально направляется к блоку, имя которого определено в поле B. Если переход невозможен (например, занято устройство), то делается попытка перейти к блоку, чье имя определено в поле C. Если оба блока заняты, то транзакт остается в блоке TRANSFER и повторяет попытку перехода при каждом изменении системного времен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5B58B-B275-4D6F-A691-228BAF0AA9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Условный перехо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14560" indent="-2145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 поле A определено значение ALL, то поля B и C содержат имена блоков, а поле D содержит целое числ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4560" indent="-2145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анзакт последовательно пытается войти в блоки, отстоящие друг от друга на расстояние D, начиная с блока B и заканчивая блоком C до первой успешной попытки. Если ни один из блоков не может принять транзакт, то он остается в блоке TRANSFER и повторяет попытку перехода при каждом изменении системного времен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4560" indent="-2145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чение поля D должно задаваться таким образом, чтобы выполнялось условие №C = №B + M*D, где M — любое целое число. Если поле D не задано, то транзакт пытается последовательно войти в каждый блок между B и 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2ED70-F3E1-40D5-860E-CF9500C018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Условный перехо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 поле A определено значени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о поля B и C содержат имена блоков, а транзакт направляется в любой блок между блоками B и C, выбранны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учайным образо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28B59-40E2-47EF-8DA8-DAC98D1CDF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верка состоя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ще одним блоком, изменяющим маршрут транзакта, является бло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T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 позволяет изменять путь транзакта в зависимости от состояния моделируемого оборудования и имеет следующую структуру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TE O A,B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оле O задается проверяемое состояние оборудования в виде мнемокода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оле A задается имя проверяемой единицы оборудования, в поле B — имя блока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которому направляется транзакт, если проверяемое условие ложн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C75C1-E04C-4245-AEE4-AD105676A7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верка состоя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ол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усто, то блок работает в режиме отказ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этом режиме транзакт задерживается в блоке GATE до тех пор, пока не выполнится условие состояния проверяемого объект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только это произойдет, транзакт направляется к следующему за GATE блок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A6D32-C054-47FA-8236-0E3EE4D7B7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верка состоя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ол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 пусто, то блок работает в режиме условного переход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роверяемый в этом режиме объект не находится в требуемом состоянии, транзакт направляется к блоку, указанному в поле B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ротивном случае транзакт направляется к следующему за GATE блок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28D40-EBB8-4B3F-925E-BB14F80F32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Мнемокод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мять пуст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NE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мять не пуст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F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мять заполнен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NF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мять не заполнен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ройство занят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ройство свободн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S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огический переключатель включен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R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огический переключатель выключен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F4357-680E-467C-A790-5BED761BAB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, в блок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GATE SF ST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анзакт будет задержан до тех пор, пока память с именем STR не будет полной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220B8-3040-49B8-97CB-B6E4FDF606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Логические услов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14560" indent="-2145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ок TEST изменяет маршрут транзакта в зависимости от выполнения разнообразных логических условий, определенных на множестве СЧА. Блок имеет следующую структуру: TEST O A,B,C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4560" indent="-2145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оле O указывается мнемоника отношения: L — меньше, LE — меньше или равно, E — равно, NE — не равно, G — больше, GE — больше или равн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4560" indent="-21456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олях A и B указываются левое и правое значения условия, соответственно. В поле C указывается имя блока, к которому направляется транзакт, если проверяемое условие ложно. Если проверяемое условие истинно, то транзакт переходит к следующему за TEST блок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EDAB6-118C-4BCB-A95C-99B40F2E0F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сновные функ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ие и уничтожение транзактов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е их атрибутов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ержка транзактов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е маршрутов транзактов в систем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CA3B4-7A0C-4552-9C7B-3C8A2EEB6A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ЧА для работы с очередь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$&l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текущая длина очеред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A$&l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средняя длина очеред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C$&l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число транзактов, вошедших в очередь с начала моделировани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M$&l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максимальная длина очеред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T$&l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среднее время нахождения транзакта в очеред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FDE34-78C0-4510-AFE0-13FB59B221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, при входе транзакта в блок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EST G Q$OCH,5,OTD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яется длина очереди OCH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длина очереди больше пяти, то транзакт направляется к следующему за TEST блоку, иначе транзакт переходит к блоку с именем OTD1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BFF6D-F1AF-497F-BFC3-05844A0D8F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магазине находится два отдела: продовольственный и промтоварный. Около 30% приходящих в магазин покупателей направляются в промтоварный отдел, остальные — в продовольственный. Причем если очередь в промтоварном отделе больше двух человек, а в продовольственном — больше пяти, то покупатели уходят из магазина, не дожидаясь обслуживания. Время прихода и обслуживания покупателей распределено экспоненциально. Среднее значение времени прихода равно соответственно 20 сек, времени обслуживания в продовольственном отделе — 30 сек и в промтоварном — 35 сек. Составить модель, имитирующая работу магазина за 8 ч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C5F26-1538-4604-884E-D573252BB5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3920" indent="-2224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GENERATE (EXPONENTIAL(1,0,20)) ;приход покупателе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3920" indent="-2224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RANSFER .3„PROM ;выбор покупателем отдел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3920" indent="-2224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работа продовольственного отдел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3920" indent="-2224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PROD TEST LE Q$LIN1,5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;если очередь больше 5 чел. — уход покупател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3920" indent="-2224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QUEUE LIN1 ;поставить в очередь в продовольственный отде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3920" indent="-2224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SEIZE PROD1 ;занять продавц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3920" indent="-2224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DEPART LIN1 ;покинуть очередь в продовольственный отде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3920" indent="-2224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DVANCE (EXPONENTIAL(1,0,30)) ;обслуживание покупател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087A2-E1F7-4E04-A6F9-4F3BB1810B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17080" indent="-2156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RELEASE PROD1 ;освободить продавц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56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ERMINATE ;уход покупател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56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работа промтоварного отдел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56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PROM TEST LE Q$LIN1,2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56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QUEUE LIN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56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SEIZE PROD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56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DEPART LIN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56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DVANCE (EXPONENTIAL(1,0,35)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17080" indent="-21564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RELEASE PROD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742B9-D993-41AF-B69B-16154058CE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ERMIN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таймер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GENERATE 288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ERMINATE 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START 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BEDE6-F945-4413-9EB6-5DD0C96346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абота с память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ъект «память» призван имитировать разного рода накопители, используемые в исследуемых системах, в которых может одновременно находиться несколько транзакто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каждой применяемой памяти пользователь должен указать её ёмкость — максимальное количество транзактов, которые могут одновременно в ней находитьс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указания емкости используется оператор описания памяти STORAGE. Этот блок помещается до первого блока GENERAT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е метки содержит имя памяти, а операнд A указывает емкость памяти. Например, STR STORAGE 10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10BE1-E650-4ED9-A3D3-394977305B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нятие памя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ок ENTER занимает память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 A,B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оле A блока указывается имя памяти, в которую помещается транзакт, в поле B – число единиц памяти, занимаемых транзактом при вход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транзакт входит в блок ENTER, определяется число свободных единиц памят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значение операнда B не превышает числа свободных единиц памяти, то число занятых единиц увеличивается на значение операнда B. В этом случае транзакт входит в блок ENTER без задержк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62066-1AC0-4F51-A021-02D5A2DF52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нятие памя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же значение операнда B превышает число свободных единиц памяти, то транзакт задерживается перед входом в блок ENT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ержанные при обращении к памяти транзакты упорядочиваются по приоритет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оле B в блоке ENTER пустое, то число занимаемых единиц памяти принимается равным единиц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B4E74-6BA0-4DB5-A85E-B58D7D3389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нятие памя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транзакт задержан перед входом в блок ENTER, но для второго транзакта, приходящего после, свободной емкости памяти достаточно, то второй транзакт войдет в блок без задержк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использования блока ENTER память должна быть обязательно описана ранее командой STORAG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D96DC-D415-4BAD-A698-614E070EFF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грамм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ая программа на GPSS связана с созданием транзактов, проведением их через последовательность блоков и уничтожением транзакто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фавит языка GPSS состоит из латинских букв от A до Z, цифр от 0 до 9 и следующих специальных символов: $, #, *, +, -, /, (, ), ’, точка, запятая, пробе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BCC3F-399E-427E-89F0-DFA2482C00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свобождение памя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ок LEAVE освобождает память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VE A,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оле A указывается имя освобождаемой памяти, в поле B — число освобождаемых единиц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лучае пустого пол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B число освобождаемых единиц памяти принимается равным единиц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вход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анзакта в блок LEAVE количество занятых единиц памяти, указанной в поле A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меньшается на значение операнда B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д входом в блок транзакты не задерживаютс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8CD75-B329-48AE-9329-BDAB52DBD6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свобождение памя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анзакт не должен освобождать большее число единиц памяти, чем их всего занят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же транзакт пытается это сделать, то симулятор выдает на печать сообщение об ошибке и прекращает выполнение модел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анзакт не обязан освобождать такое же число единиц памяти, какое занима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 может также освобождать память, которую не занима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25178-4493-480B-B5B2-DEEBFBA9F1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свобождение памя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от момент модельного времени, когда транзакт освобождает память, симулятор просматривает список задержанных у памяти транзактов, если они есть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каждого очередного транзакта проверяется, может ли он теперь быть обслужен памятью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такая возможность есть, то симулятор перемещает этот транзакт в блок ENTER, и в результате число занятых единиц памяти соответствующим образом увеличивается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01B28-CED2-4E52-87DB-339E0AAD3D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свобождение памя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анзакт имеет право занимать и освобождать любое количество памятей, при этом операции занятия и освобождения могут чередоваться в произвольном порядк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DE9B5-5DAC-4D97-A7BD-6464BECCB6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втомобили подъезжают к бензозаправочной станции в среднем каждые 2-6 минут. На станции есть две бензоколонки, каждая из которых используется в среднем 4-6 минут. Автостоянка при станции рассчитана на 4 автомобиля. Если подъехавший автомобиль застает обе бензоколонки занятыми, то он встает в очередь на автостоянку. Если же все места на автостоянке заняты, то автомобиль проезжает мимо. Промоделировать работу станции за 12 часо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468C6-B0FD-436F-B2E4-CF711C2C9C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 STORAGE 4 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ста под автостоянк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 STORAGE 2 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бензоколонк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TE 4,2 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риезд автомобил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TE SNF STO,FIN 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сли места заняты — проезжае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 STO 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нять место на автостоянк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 COL 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нять бензоколонк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VE STO 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свободить автостоянк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F79BF-6BC3-474E-84D3-9C681D7C48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ANCE 5,1 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правитьс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VE COL 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свободить бензоколонк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 TERMINATE 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кинуть станцию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таймер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TE 72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MINATE 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35C31-E1E8-4D40-8BD4-25B32A9088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еременна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использования переменной ее необходимо описать оператором VARI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рифметическая переменная), FVARIABL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рифметическая переменная с плавающей точкой) и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VARIABL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улевская переменная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оле метки оператора записывается имя переменной, а в операнде A — арифметическое выражение, составляемое из СЧА, знаков арифметических операций и круглых скобок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A2A27-B34E-4A45-A8DD-982EC0B4D3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еременна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ются следующие арифметические операции: +, –, # (умножение), /, @ (остаток от деления), \ (целое от деления)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^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возведение в степень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ение на ноль не считается ошибкой, и результатом такого деления является ноль. Остаток от деления на ноль также считается равным нулю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использовании переменной в программе указывается СЧА переменной: V$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я переменно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9B377-B6DE-444D-A941-E0DCD301D3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еременна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менная является единственным объектом языка, по которому по окончанию моделирования в отчете не выдается никакой информаци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этому, если по окончанию моделирования необходимо проанализировать значение переменной, то можно присвоить ее значение ячейке, значение которой выводится в результирующем отчет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A32AD-9F49-4A8D-9100-F28611CC53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тандартные числовые атрибуты (СЧА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роцессе моделирования язык GPSS автоматически регистрирует и корректирует определенную информацию различных объектов, используемых в модел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ступ к этой информации осуществляется с помощью СЧА, которые однозначно определяют статус объектов модел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ЧА меняются в процессе имитации, изменить их может как симулятор, так и пользователь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D4956-46DE-49E8-98C8-0FC0E336CE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Ячейк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чейки служат для хранения некоторых постоянных или изменяющихся значений данных программы. Ячейка может обозначаться как именем, так и число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работы с ячейками используется блок SAVEVALUE. В поле A этого блока указывается номер или имя ячейки, сохраняющей значение, и вид изменения этого значения («+» — накопление,  «–» — уменьшение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оле B содержится либо СЧА, либо число, которое добавляется или вычитается, или заменяет содержимое ячейк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04FCD-FCC8-4AEC-A1E8-C5169A8CCF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Ячейк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, SAVEVALUE 10+,1 означает, что при поступлении транзакта в блок к содержимому 10-й ячейки прибавляется единиц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SAVEVALUE FRT,V$VAR1 означает, что при поступлении транзакта в этот блок в ячейку с именем FRT записывается значение переменной VAR1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необходимости обращения к ячейке указывается СЧА ячейки: X$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чей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если ячейка задана именем) или XN (если ячейка задана номером N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7A45F-5762-49B0-A686-697925423C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Ячейк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д началом имитации содержимое всех используемых в программе ячеек устанавливается в 0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же требуется задать значение какой-либо из ячеек до начала моделирования, то для этого используется блок INITIAL, в поле A которого задается СЧА ячейки, а в поле B — присваиваемое значени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, INITIAL X$UCH1,10 — присвоить ячейке с именем UCH1 значение 10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т оператор должен помещаться до первого блока GENERAT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8FA83-C56D-4D3A-B720-AC64814A78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ство деталей включает длительный процесс сборки, заканчивающийся коротким периодом обжига в печи. Поскольку содержание печи обходится дорого, несколько сборщиков используют одну печь, в которой одновременно можно обжигать только одну деталь. Сборщик не может начать новую сборку, пока не вытащит из печи предыдущую деталь. Время сборки детали равно 25-35 минут. Время обжига равно 6-10 минут. Зарплата сборщика составляет 60 рублей в час, стоимость эксплуатации печи — 3200 рублей за 8 часов. Цена материала, идущего на изготовление одного изделия, равна 100 рублям, стоимость готового изделия — 380 рублей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D9092-939E-4B20-851E-F818C98F82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определить оптимальное количество сборщик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сходя из максимизации прибыли за неделю (8-часовой рабочий день без выходных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ачестве транзактов в модели будем рассматривать самих сборщиков, подразумевая, что в каждый момент времени один сборщик производит одну деталь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5C597-C633-4838-8E8B-0FCFBC711C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BOR VARIABLE N ;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прогоне модели вмест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вим конкретное целое число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ATR VARIABLE 3200#7+V$SBOR#60#56 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траты на содержание печи и зарплату сборщиков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B VARIABLE X$IZD-V$ZAT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; результирующая прибыл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TE „,V$SBO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 ADVANCE 30,5 ;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сборки издел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IZE PE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ANCE 8,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0A2D4-084B-4016-8880-EB831628A5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EASE PE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VEVALUE IZD+,28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 ,PRO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TE (56#60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VEVALUE REZULT,V$PRIB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MINATE 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AE1CF-BEAA-479E-85A8-16ADD633DF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Матриц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рицы служат для хранения некоторых постоянных или изменяющихся значений данных программы в виде массивов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использовать в программе матрицу, необходимо сначала ее описать оператором MATRIX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оле метки оператора записывается имя матрицы. Поле A в операторе не используется, поля B и C содержат числовые значения, определяющие количество строк и количество столбцов в матрице, соответственн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6939A-9B6A-4A18-B87C-375493A965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Матриц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альные значения всех элементов матрицы равны нулю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необходимо присвоить всем элементам матрицы одинаковые значения, отличные от нуля, используется оператор INITIAL, в поле A которого задается имя матрицы, в поле B — присваиваемое значени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EF21E-6BE7-4DD7-B013-F4969388CF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Матриц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изменения значения отдельного элемента матрицы используется блок MSAVEVALUE. В поле A блока указывается имя матрицы, после которого может быть указан «+», «–» или ничего. Поля B и C служат для выбора конкретного элемента матрицы и содержат номер строки и номер столбца, соответственно. В поле D указывается значение, которое должно быть добавлено, вычтено или присвоено элементу матрицы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3920" indent="-223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осле имени матрицы не стоит никакого знака, то значение D присваивается элементу. Если после имени матрицы стоит знак «+» или «–», то указанное значение добавляется или вычитается из текущего значения элемента, соответственно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21AA2-E66A-4B2F-B506-1DB74966B6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тандартные числовые атрибуты (СЧА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указания конкретного объекта, по которому необходимо получить требуемую информацию, за именем СЧА должно следовать числовое или символьное имя этого объект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используется символьное имя, то между СЧА и именем объекта ставится знак $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 есть указывать нужно &lt;имя СЧА&gt;i, либо &lt;имя СЧА&gt;$&lt;имя объекта&gt;, где i обозначает номер объект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7D13B-5E7E-418E-BCC3-5587BB88BE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Матриц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необходимости обращения к элементу матрицы указывается СЧА элемента: МX$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я матриц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I, J) (если матрица задана именем) или XN(I, J) (если матрица задана номером N). Здесь I означает номер строки, J — номер столбц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40144-F34A-4F85-ADBC-619B999BEA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орите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транзакт может иметь свой приоритет — от 0 до 127. Чем больше номер, тем больше приоритет. Предпочтение в системе отдается транзактам с большим приоритетом, ранее поступивши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изменения приоритета транзакта в процессе его путешествия по системе используется блок PRIORITY. Поле этого блока определяет значение присваиваемого приоритет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, при прохождении через блок PRIORITY 3 транзакту будет присвоен приоритет 3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C5F06-8F5A-4D92-AA58-E2C3576711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арамет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транзакт может иметь до 100 параметров (атрибутов). Значения параметрам присваиваются с помощью блока ASSIG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оле A этого блока указывается номе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 имя параметра и вид его изменения, в поле B определяется записываемое в параметр значение, в поле C задается при необходимости модификатор значения B в виде имени функции, значение которой умножается на B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писывая к номеру параметра в поле A символ + или –, можно обеспечить не запись значения поля B в параметр, а добавление или вычитание этого значения из значения параметра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B496C-6BCD-43F9-A13A-4DE4EB7229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арамет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 1,1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занести 10 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 2+,V$VAR1,EXP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добавить в Р2 значени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$VAR1*FN$EXP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 TR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S$STR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вычесть из Р$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чение текущего содержимого памя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F610C-BA86-49DA-9F45-CE26979D59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арамет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я блок ASSIGN, можно организовывать циклы в программ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, если необходимо прогнать транзакт 10 раз через блок ADVANCE, это можно осуществить следующим образом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SSIGN 1,10 ; занести 10 в P1 транзакт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PROD ADVANCE 5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SSIGN 1-,1 ; вычесть 1 из P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EST E P1,0,PROD ; продолжать цикл пока счетчик не обнулитс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6AC3B-9072-4BF1-B8E5-53113A19FE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магазине электротоваров работают два консультанта. Посетители заходят в магазин в среднем каждые 2 минуты. Покупатели осматривают товар в среднем в течение 10 минут, после чего примерно 70% из них обращаются к консультанту за помощью (время на консультацию составляет в среднем 5 минут). После осмотра товара и получения консультации примерно 40% посетителей уходят без покупки. Остальные покупатели с выбранным товаром направляются к кассе. Кассир обслуживает клиентов в среднем 3 минуты. Стоимость покупки распределена равномерно на интервале от 500 до 20000 рублей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3AE8C-4709-4F40-99AF-E30D4B20D0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вестно, что примерно у 3-х процентов покупателей есть карточка со скидкой в 10% , а у 12-ти процентов покупателей есть карточка со скидкой в 5%. Необходимо оценить прибыль магазина за 10-часовой рабочий день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личие карточки со скидкой у покупателя мы опишем функцией SKIDKA и будем записывать ее значение в 1-й параметр транзакта. Стоимость производимой покупки опишем с помощью функции POKUP, прибыль магазина опишем переменной SUM. Консультанты в модели будут представлены памятью CONS, кассир — устройством KA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252A3-7572-4AC1-A11F-01AEA27A8A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 STORAGE 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KUP FUNCTION RN1,C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,500/1,200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IDKA FUNCTION RN1,D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03,0.10/.15,0.05/1,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 VARIABLE FN$POKUP#(1-P1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ED783-5F0D-41FD-924D-494F01CEFE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TE (EXPONENTIAL(1,0,2)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 1,FN$SKIDK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ANCE (EXPONENTIAL(1,0,10)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 .3„O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 C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ANCE (EXPONENTIAL(1,0,5)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VE C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SM TRANSFER .4„UXO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EF3F5-2DE0-41D5-8826-B185DB25D6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838080" y="1825560"/>
            <a:ext cx="105156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IZE K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ANCE (EXPONENTIAL(1,0,3)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VEVALUE PRIB+,V$SU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EASE K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XOD TERMIN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TE 60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MINATE 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4D927-A0B9-4A24-A925-9DD962E93B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10:52:45Z</dcterms:created>
  <dc:creator>Александр Кабанов</dc:creator>
  <dc:description/>
  <dc:language>en-US</dc:language>
  <cp:lastModifiedBy>Александр Кабанов</cp:lastModifiedBy>
  <dcterms:modified xsi:type="dcterms:W3CDTF">2017-11-23T14:14:31Z</dcterms:modified>
  <cp:revision>180</cp:revision>
  <dc:subject/>
  <dc:title>Информатика</dc:title>
</cp:coreProperties>
</file>