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2DA-78A4-40E4-AF12-41979BA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1F6-F50A-44E3-BEAC-95FBAA27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A32-298D-4DE1-8CC5-F93BBB7C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B78-FA4C-4AF1-A32D-5D49597B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006-771D-4837-A913-BF168F4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BB4-0CE4-45CC-A5BA-A32F7A97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4D9-0392-4B82-A168-979703A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EA4-E5AD-4E7B-9E3A-24BAE9A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FEE-8620-4BDB-90DC-2D0D862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42A-70E4-482E-9FEF-BD1740E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E15-FB17-4B89-83E3-DB1B067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DCE-6C94-42B2-A78F-5C5F3A1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DACA-8212-4366-90C2-27A7975230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F68-EB60-4F79-AADC-1AC53B63B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301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Теория функций комплексного переменного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 Light"/>
              </a:rPr>
              <a:t>Теорема Коши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Коши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в односвязн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граниченной кусочно-гладким конту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дана аналитическ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непрерывная в замкнут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интеграл от этой функции по контур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вен ну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8AE-9FB8-4A13-AE51-A5036EADC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4"/>
          <p:cNvSpPr/>
          <p:nvPr/>
        </p:nvSpPr>
        <p:spPr>
          <a:xfrm>
            <a:off x="6940440" y="2638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ледствие из теоремы Ко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тическая в односвязн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интегралы по любым кривым, целиком лежащим в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имеющим одинаковые точки начала и конца, равны между с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интеграл от аналитической функции не зависит от пути интегрирования, а зависит только от начальной и конечной точек этого пу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CB5F-0687-4235-AA95-952F6E62B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еорема Коши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ля многосвязной обла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Коши для сложного контура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в многосвязн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граниченной извне конту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изнутри контур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на аналитическ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непрерывная в замкнут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лная граница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щая из контур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нтеграл от этой функции по контур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вен ну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1761-A423-4E34-B311-5E380AAB4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4"/>
          <p:cNvSpPr/>
          <p:nvPr/>
        </p:nvSpPr>
        <p:spPr>
          <a:xfrm>
            <a:off x="4338720" y="30369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ледствия из теоремы о сложном контур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 1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условиях теоремы интеграл по внешнему контуру равен сумме интегралов по всем внутренним контурам, если обход контуров осуществляется в одну сторо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 2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тическая в односвязн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а ее границе, за исключением, быть может, одной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области. Тогда интегралы от этой функции по различным контурам, целиком лежащим в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граничивающим области, содержащие точк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равны между с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AC61-36A7-40C3-B603-CBC669C19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образна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определена и непрерывна в односвязной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роизвольная точка из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интеграл от этой функции по любому замкнутому контур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целиком лежащему в данной области, равен нулю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тической в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z) =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0839-51AB-4D0C-9091-10B13056A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4903920" y="3330720"/>
                <a:ext cx="238752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z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ζ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альная формула Кош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аналитическая в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а ее гран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для любой внутренней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место раве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имеет место форму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85F-8388-4CA5-A17B-D163C73B0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5"/>
              <p:cNvSpPr txBox="1"/>
              <p:nvPr/>
            </p:nvSpPr>
            <p:spPr>
              <a:xfrm>
                <a:off x="4587840" y="2994120"/>
                <a:ext cx="30164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i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6"/>
              <p:cNvSpPr txBox="1"/>
              <p:nvPr/>
            </p:nvSpPr>
            <p:spPr>
              <a:xfrm>
                <a:off x="4651200" y="4711680"/>
                <a:ext cx="2889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i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альная формула Коши для производны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аналитическая в 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а ее гран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для любой внутренней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место раве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имеет место форму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090F-3450-4C40-9346-12A03F792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5"/>
              <p:cNvSpPr txBox="1"/>
              <p:nvPr/>
            </p:nvSpPr>
            <p:spPr>
              <a:xfrm>
                <a:off x="4100400" y="2994120"/>
                <a:ext cx="39909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i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Объект 7"/>
              <p:cNvSpPr txBox="1"/>
              <p:nvPr/>
            </p:nvSpPr>
            <p:spPr>
              <a:xfrm>
                <a:off x="3833640" y="4711680"/>
                <a:ext cx="45244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i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998800"/>
            <a:ext cx="1051560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3. Интеграл по комплексному переменному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8E8A-2D7E-4769-95EF-089343ECF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нятие интеграл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0720" y="1555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на комплексной плоскости задана кусочно-гладкая крива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нечной длины и в каждой точке кривой определено значение функ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параметризация крив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x(t), y = y(t), a ≤ t ≤ b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каждая точка крив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(t) = x(t) + iy(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бьём криву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астичных дуг точками дел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рядке возрастания парам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: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… &lt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b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и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Δ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CEF-6C82-4119-B462-55144B9B8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нятие интеграл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ерем на каждой частичной дуг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очке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ζ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м сумм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∞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|Δ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предел указанной суммы, не зависящий ни от разбиения крив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и от выбора точек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ζ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этот предел называется интегра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крив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837-C729-4405-8F01-753B1268F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Объект 4"/>
              <p:cNvSpPr txBox="1"/>
              <p:nvPr/>
            </p:nvSpPr>
            <p:spPr>
              <a:xfrm>
                <a:off x="5186520" y="2316240"/>
                <a:ext cx="1819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Объект 5"/>
              <p:cNvSpPr txBox="1"/>
              <p:nvPr/>
            </p:nvSpPr>
            <p:spPr>
              <a:xfrm>
                <a:off x="5451480" y="4979880"/>
                <a:ext cx="1287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С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уществование интеграл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 = u(x,y) + iv(x,y)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ζ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нтегральная сумма примет ви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DF5-F8EF-4689-8623-C512588B2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Объект 4"/>
              <p:cNvSpPr txBox="1"/>
              <p:nvPr/>
            </p:nvSpPr>
            <p:spPr>
              <a:xfrm>
                <a:off x="2284560" y="2700360"/>
                <a:ext cx="76230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5"/>
              <p:cNvSpPr txBox="1"/>
              <p:nvPr/>
            </p:nvSpPr>
            <p:spPr>
              <a:xfrm>
                <a:off x="1344600" y="3767040"/>
                <a:ext cx="9502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1171440" y="4834080"/>
                <a:ext cx="9848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уществование интеграл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едельном переходе получаем 2 криволинейных интеграла второго 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для существования интеграла комплекс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аточно лишь кусочной непрерывности действительных функци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x,y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(x,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4C33-618F-4546-9B65-C5D6DB3F6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Объект 4"/>
              <p:cNvSpPr txBox="1"/>
              <p:nvPr/>
            </p:nvSpPr>
            <p:spPr>
              <a:xfrm>
                <a:off x="4087800" y="2762280"/>
                <a:ext cx="40165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С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d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i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С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dy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интеграл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λ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 констан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EDA-1DF9-48DC-9DBB-15356E4E1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Объект 5"/>
              <p:cNvSpPr txBox="1"/>
              <p:nvPr/>
            </p:nvSpPr>
            <p:spPr>
              <a:xfrm>
                <a:off x="1406520" y="1735200"/>
                <a:ext cx="31384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6"/>
              <p:cNvSpPr txBox="1"/>
              <p:nvPr/>
            </p:nvSpPr>
            <p:spPr>
              <a:xfrm>
                <a:off x="1406520" y="2744640"/>
                <a:ext cx="4549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Объект 7"/>
              <p:cNvSpPr txBox="1"/>
              <p:nvPr/>
            </p:nvSpPr>
            <p:spPr>
              <a:xfrm>
                <a:off x="1406520" y="3792600"/>
                <a:ext cx="32637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λ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λ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Объект 8"/>
              <p:cNvSpPr txBox="1"/>
              <p:nvPr/>
            </p:nvSpPr>
            <p:spPr>
              <a:xfrm>
                <a:off x="1406520" y="4824360"/>
                <a:ext cx="5491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 Light"/>
              </a:rPr>
              <a:t>Замкнутый контур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кнутым контуром будем называть кусочно-гладкую замкнутую кривую без точек самопересе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ительным направлением обхода замкнутого контура будем называть такое направление обхода, при котором внутренняя область, ограниченная данным контуром, остается слева от направления дви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енно, обратное направление будем называть отрицательным направлением об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FF6-E5D0-491A-BBB4-A5CB0D3D2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 Light"/>
              </a:rPr>
              <a:t>Теорема Коши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Коши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в односвязной области задана аналитическая функция. Тогда интеграл от этой функции по любому замкнутому контуру, целиком лежащему в этой области, равен ну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ь называется односвязной, если для любой замкнутой непрерывной кривой, принадлежащей области, часть плоскости, ограниченная этой кривой, целиком лежит в этой об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BE19-22E0-4B23-87B6-B4116F5AD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6-03-28T03:01:42Z</dcterms:modified>
  <cp:revision>261</cp:revision>
  <dc:subject/>
  <dc:title>Информатика</dc:title>
</cp:coreProperties>
</file>