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A9A2-D22A-4DAB-AC54-BB95266D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17B3-B939-4859-B544-B1236D90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7EE1-DA36-4391-82C7-F1805BD5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3C99-F891-456B-8335-2BD32BAC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3A9C-DBFE-46BC-A796-B3227262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B105-1103-44F3-8399-DF4F74D4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6B5E-BD3B-4C63-83C7-6BE65679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E4D6-294E-4366-BD5C-46A3EC93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35AA-80FE-45F3-8023-A9D38B5F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256F-670E-4F1D-A271-CEE63CE6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4903-2384-4830-8CAD-B14DF8C3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4B75-2C06-4975-8AD1-C3FAF979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03A0-47F4-4C3D-B26B-9E22E687869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7C2C-D2CD-4778-AD53-41BE215B3C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301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 Light"/>
              </a:rPr>
              <a:t>Теория функций комплексного переменного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484488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банов Александр Николаеви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.ф.-м.н., доцент кафедры киберне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войства аналитических функци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мма, разность и произведение функций, аналитических в некоторой точке, есть функция, аналитическая в этой точ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астное функций, аналитических в некоторой точке, есть функция, аналитическая в этой точке, если знаменатель в этой точке отличен от ну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озиция аналитических функций есть аналитическая функц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литическая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’(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обратная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z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литическая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f(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E8B4-70B4-446A-B75B-31FFBB3B62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Геометрический смысл производно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аналитическая функция, отображающая точк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точк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а кривую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проходящую через точк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кривую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проходящую через точк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ргумент производной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ть разность между углом касательной к кривой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углом касательной к кривой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юда следует, что угол между любыми двумя кривыми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пересекающимися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равен углу между их образами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пересекающимися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03A5-B17E-414E-83A3-81AC5AF818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Геометрический смысл производно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дуль производной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ть предел отношения модуля приращения функции к модулю приращения аргумен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юда следует, что модуль производной есть коэффициент преобразования подобия для бесконечно малых линейных элемен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C25A-6AFB-4B1E-8D2B-76C0EB2BA7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Конформное отображени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аналитическая функция осуществляет отображение, обладающее свойством сохранения углов и постоянством растяж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е отображения называются конформными отображени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208B-6D06-41C2-B9D6-A031B13E4C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едел последовательност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20720" y="15555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зывается пределом последовательно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gt; 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 &gt; N |z –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 &lt;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этом случае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довательность комплексных чисел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ℝ)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последовательно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ходится тогда и только тогда, когда сходятся последовательно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{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При этом                              гд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CEE4-0B83-4E11-94BD-1FAC3746ED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Объект 4"/>
              <p:cNvSpPr txBox="1"/>
              <p:nvPr/>
            </p:nvSpPr>
            <p:spPr>
              <a:xfrm>
                <a:off x="3316320" y="2411280"/>
                <a:ext cx="1630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Объект 5"/>
              <p:cNvSpPr txBox="1"/>
              <p:nvPr/>
            </p:nvSpPr>
            <p:spPr>
              <a:xfrm>
                <a:off x="1798560" y="4075200"/>
                <a:ext cx="23209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a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bi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Объект 6"/>
              <p:cNvSpPr txBox="1"/>
              <p:nvPr/>
            </p:nvSpPr>
            <p:spPr>
              <a:xfrm>
                <a:off x="4735440" y="4075200"/>
                <a:ext cx="32925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b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едел функци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функция комплексного переменного. Если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езависимо от выбора последова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ходящейся к числ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! предел                         то числ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зывается пределом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-другому: числ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пределом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есл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gt; 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gt; 0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z |z –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 &lt;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|f(z) – w| &lt;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предел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тремящемся к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овпадает со значением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зывается непрерывной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23E6-478B-4149-B7A6-E78C657BC2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Объект 4"/>
              <p:cNvSpPr txBox="1"/>
              <p:nvPr/>
            </p:nvSpPr>
            <p:spPr>
              <a:xfrm>
                <a:off x="2263680" y="2587680"/>
                <a:ext cx="19684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прерывност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 = u(x,y) + iv(x,y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прерыв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и только тогда, когда непрерывны действительные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(x,y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(x,y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совокупности переменны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мечание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ействительная функция нескольких переменных непрерывна по совокупности переменных, если предел этой функции по любому направлению к точке совпадает со значением функции в этой точ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451B-97F8-42FD-B921-A0CA5A9063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Дифференцируемост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для точк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уществует преде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 этот предел называется производной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точ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обозначаетс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’(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при этом называется дифференцируемой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86B5-428A-41F7-AD5A-F5B0CEC84A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Объект 4"/>
              <p:cNvSpPr txBox="1"/>
              <p:nvPr/>
            </p:nvSpPr>
            <p:spPr>
              <a:xfrm>
                <a:off x="4386240" y="2351160"/>
                <a:ext cx="34196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z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z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z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Calibri Light"/>
              </a:rPr>
              <a:t>Необходимое условие дифференцируемости</a:t>
            </a: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ли функци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(z) = u(x,y) + iv(x,y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фференцируе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 iy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 в точке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существуют частные производные функци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(x,y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(x,y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 переменны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При этом для них выполняются следующие соотнош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и отношения называются условиями Коши-Рима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CF57-9E9D-4397-AE1D-EDF8F08A35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Объект 4"/>
              <p:cNvSpPr txBox="1"/>
              <p:nvPr/>
            </p:nvSpPr>
            <p:spPr>
              <a:xfrm>
                <a:off x="2332080" y="3519360"/>
                <a:ext cx="752796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Calibri Light"/>
              </a:rPr>
              <a:t>Достаточное условие дифференцируемости</a:t>
            </a: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ли в точке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существуют непрерывные частные производные функци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(x,y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(x,y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 переменны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для них выполняются условия Коши-Римана, т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(z) = u(x,y) + iv(x,y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фференцируе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 iy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AE89-FBC3-4ACD-ACC1-16B0797E72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Аналитические функци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функция дифференцируема во всех точках некоторой области, то она называется аналитической в этой обла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функция аналитическая в окрестности некоторой точки, то она называется аналитической в этой точ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чки, в которых нарушается аналитичность функции, называются особы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ECFC-4BF0-4FE1-BCBF-F76C88F1AA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Гармонические функци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(x, y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удовлетворяющая уравнению Лапласа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называется гармонической функци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– оператор Лапла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рмонические функции, связанные условиями Коши-Римана, называются сопряжёнными гармоническими функци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действительная и мнимая части любой аналитической функции являются сопряжёнными гармонически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0F6A-89C6-4458-A134-5E41C0A492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Объект 4"/>
              <p:cNvSpPr txBox="1"/>
              <p:nvPr/>
            </p:nvSpPr>
            <p:spPr>
              <a:xfrm>
                <a:off x="1665360" y="2556000"/>
                <a:ext cx="15001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10:52:45Z</dcterms:created>
  <dc:creator>Александр Кабанов</dc:creator>
  <dc:description/>
  <dc:language>en-US</dc:language>
  <cp:lastModifiedBy>Александр Кабанов</cp:lastModifiedBy>
  <dcterms:modified xsi:type="dcterms:W3CDTF">2016-02-28T18:58:08Z</dcterms:modified>
  <cp:revision>221</cp:revision>
  <dc:subject/>
  <dc:title>Информатика</dc:title>
</cp:coreProperties>
</file>