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4960" cy="3084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4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41B787-2E7E-47A4-B969-B1E15035593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08D88C-3D19-4CCE-AC05-8C79FEE834C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5CE6CF-381C-46F8-8381-BD22EACF571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81B40E-9218-42C0-8668-86FC586883C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4CFC2B-BB39-4F5A-BCAF-A52DA58DE9B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7C15F1-0E61-4C37-AE40-428FFB32DCA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7EDAD4-5A2F-4B26-A27D-1D8C230EC74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063DA3-F19C-4A4A-936F-B053D1208DD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456F06-40D5-4C1F-ACB7-D0BC3730115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EC0326-66C5-4522-90DC-7D53773D41D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155EB7-7909-4879-8C40-D4D4E7979DD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0C6D0C-4BEF-456E-AC35-FEFDDF22F8F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9B1CDA-5305-4347-B180-C7B8F6211CD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85ED06-091C-47B3-943D-EA685506B13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195EBC-D16A-4F48-9CB5-193AD6B38DD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D76A81-5722-4B1D-9363-57050715946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5BBB82-2302-44BD-9DBE-04CDFFD1AF1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EAF462-76D1-4C2F-A399-9E17EFEAD2A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7E230-DA6E-4F5D-8702-E22292046F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6E178-84E9-40F1-BBEB-5082BED2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4AD8F-11E9-4ABC-8419-E7FAA288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844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844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138FB-DCA6-4A14-806D-F115CD77F5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52B7C-02FE-4FC1-91D6-97C92B34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8BACC-821A-4AB7-8C6A-F6261BDC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518B-1829-49AD-B63D-2E337F94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65A44-99EA-4126-9642-4FAF1CBF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EDDA3-3054-40FD-94A5-BA18F06D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65CD1-F65F-4352-A1AC-66C9B839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94323-EC6C-4CBE-A6C8-73D17A16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DCDD7-3F3D-4AE8-8B79-39E82AB9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2.02.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533177-4E95-4A5A-B080-28906C668E99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1523880" y="1301760"/>
            <a:ext cx="914400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 Light"/>
              </a:rPr>
              <a:t>Теория функций комплексного переменного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1523880" y="4844880"/>
            <a:ext cx="9144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банов Александр Николаевич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.ф.-м.н., доцент кафедры кибернети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Геометрическое представле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ое комплексное числ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+ iy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заимно однозначно сопоставляется с парой действительных чисел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, y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а значи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с точкой действительной координатной плоскост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тояние от начала координат до точк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зывается модулем числ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обозначаетс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z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геометрии известно, что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гол, который радиус-вектор точк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оставляет с положительным направлением действительной оси, называется аргументом числ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обозначаетс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262CC9-F416-4940-B201-AF387A7D91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5392800" y="3824280"/>
                <a:ext cx="21952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Аргумен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геометрии известно, что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ctg y/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 аргумент можно вычислить только с точностью д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чение аргумента в промежутке 0 ≤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 2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зывается главным значением аргумента и обозначаетс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g 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о всех значений, которые может принимать аргумент, обозначаетс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g 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g z = {arg z + 2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 | k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ое числ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метим, что аргумент числа 0 не имеет смысл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D1E366-58C4-4504-B4DF-ED0162977E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Тригонометрическая форм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ходя в запис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 = x + yi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полярным координата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олучаем тригонометрическую форму записи комплексного числ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 ка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= r cos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ϕ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y = r sin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имеем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 = r (cos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ϕ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i sin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C35BD3-0376-4D40-83B2-52236FEBC1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Геометрический смысл действи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ометрически сумма комплексных чисел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вляется концом радиус-вектора, полученного в результате сложения векторо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ность комплексных чисел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вляется суммой вектор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вектора (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, противоположного вектор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дуль разно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равен расстоянию между точкам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6E3606-6F94-4986-90D1-F4A2DE8A8E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Геометрический смысл действи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ножим комплексные числа в тригонометрической форм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·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os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i sin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·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os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i sin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i (cos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+ i sin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видно, ч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·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=|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·|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g (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·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arg (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+ arg (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 есть при умножении двух комплексных чисел их модули перемножаются, а аргументы складываютс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юда следует, что треугольник с вершинами 0, 1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треугольник с вершинами 0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·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обны между собой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0B70F0-84F4-4CD6-B343-8AAFAE8CE7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Геометрический смысл действи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делении комплексных чисел получаются аналогичные свойства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=|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g (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arg (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g (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≠ 0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логично можно и геометрически интерпретировать деление: треугольник с вершинами 0, 1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и треугольник с вершинами 0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обны между собой (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≠ 0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6C88A2-8804-478E-AF3F-8C63E9F998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Возведение в степен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полученных свойств для умножения следует, ч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 = |z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g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n arg 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ля любого целог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юда следует формула Муавра, верная для любого целог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cos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i sin n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возведении в степень комплексного числа в алгебраической форме удобно использовать формулу бинома Ньютона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8D48BA-FA37-4F47-A735-4A46302B13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4338720" y="4508640"/>
                <a:ext cx="3514680" cy="10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Извлечение корн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лексное числ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корне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й степени из комплексного числ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z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юда следует, что                 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g 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(arg z)/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 так как аргумент определен с точностью д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ледовательн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g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(arg z)/n + 2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/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чен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g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различны дл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 = 0, …, n – 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из комплексного числ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ожно извлечь ровн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различных корней степен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6A3A91-09D8-45E6-B590-770D669F22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4336920" y="1747800"/>
                <a:ext cx="1163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z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5"/>
              <p:cNvSpPr txBox="1"/>
              <p:nvPr/>
            </p:nvSpPr>
            <p:spPr>
              <a:xfrm>
                <a:off x="4237200" y="2576520"/>
                <a:ext cx="13636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ложе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тематические методы теории функций комплексного переменного в настоящее время  широко применяются для решения большого числа прикладных задач гидро- и аэродинамики, теории упругости, теоретической астрофизики, квантовой механики, кинетической теории разреженного газа и плазмы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лексные числа используются при моделировании различных технических, химических и технологических процессов, например, колебательных процессов в механических конструкциях, электрических цепях в задачах электротехник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0CE4AF-D4D2-4B2C-AF6F-6863667D71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екомендованная литератур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лковыский Л.И., Лунц Г.Л., Араманович И.Г. «Сборник задач по теории функций комплексного переменного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нчаров В.Л. «Теория функций комплексного переменного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уц А.К. «Комплексный анализ и информатика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нтелеев А.В., Якимова А.С. «Теория функций комплексного переменного и операционнное исчисление в примерах и задачах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ешников А.Г., Тихонов А.Н. «Теория функций комплексной переменной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2E0154-1968-45FF-84E8-2CDE347EB8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838080" y="2517840"/>
            <a:ext cx="105156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1. Комплексные числа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0C8D49-28F4-445B-B8DA-B6A8D0DDC1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нятие комплексного числ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лексным числом называется комбина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+ y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гд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йствительные числа, 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–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так называемая «мнимая единица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имая единица удовлетворяет характеристическому свойству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–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действительной частью числ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обозначаетс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 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мнимой частью числ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обозначаетс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 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 = 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йствительное числ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= 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зывается чисто мнимым число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DA8B30-FAB4-408F-B9DE-F699A0AE68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Арифметические действ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ожение (вычитание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±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±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+ 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±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(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±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Re(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± Re(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(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±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Im(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± Im(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гко проверить, что сложение обладает свойствами коммутативность и ассоциативност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283F25-1746-4330-A954-AE823F698E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Арифметические действ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множение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·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)·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)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·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·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·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+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·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=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+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i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(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·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Re(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·Re(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– Im(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·Im(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(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·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Re(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·Im(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+ Im(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·Re(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гко проверить, что умножение обладает свойствами коммутативность и ассоциативности, а также дистрибутивности относительно сложени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6B97EF-1E03-45D3-AF80-FC9B93895D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Арифметические действ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ление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EFE7D7-13B3-4F70-95DF-327BDE7498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922320" y="2232000"/>
                <a:ext cx="10415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i</m:t>
                        </m:r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5"/>
              <p:cNvSpPr txBox="1"/>
              <p:nvPr/>
            </p:nvSpPr>
            <p:spPr>
              <a:xfrm>
                <a:off x="3887640" y="3433680"/>
                <a:ext cx="44848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Арифметические действ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пряжени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 = x – yi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сопряженным для числ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 = x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практическим приемом деления двух комплексных чисел является умножение числителя и знаменателя на сопряженное для знаменател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437589-B1C8-48AD-8C6D-2EDA43EC93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Line 4"/>
          <p:cNvSpPr/>
          <p:nvPr/>
        </p:nvSpPr>
        <p:spPr>
          <a:xfrm>
            <a:off x="2144880" y="2449440"/>
            <a:ext cx="152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10:52:45Z</dcterms:created>
  <dc:creator>Александр Кабанов</dc:creator>
  <dc:description/>
  <dc:language>en-US</dc:language>
  <cp:lastModifiedBy>Александр Кабанов</cp:lastModifiedBy>
  <dcterms:modified xsi:type="dcterms:W3CDTF">2020-04-06T09:20:16Z</dcterms:modified>
  <cp:revision>286</cp:revision>
  <dc:subject/>
  <dc:title>Информатика</dc:title>
</cp:coreProperties>
</file>