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291-4F32-4640-9A5D-192B40C2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DD8-624F-49A3-BA81-2E52D4F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023-5BAF-4F69-8AFE-3C75BA65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CFF-8979-437B-BB03-29BE361B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7BF-E717-4E2D-BF38-38830058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6F9-19E9-4A61-AE05-9EE9EFF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80B-86ED-495A-936D-DAA578A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749-24EF-4C1A-8BC0-512AC5D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68C-3644-4A75-9533-4BD3038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D19-1E09-4F36-9806-63080B2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B65-18FB-4F3E-B977-E740D00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DE6-EDEA-41AB-ADAC-211FFF80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7080-59AC-4DE9-AF11-956095FFCF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285C-F03F-4816-8031-0D48B7BF4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301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Теория функций комплексного переменного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полюс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ифференцировав это выражени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–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раз, получ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ремля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луч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5653-C0BD-41C9-A050-D92F5B58E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Объект 4"/>
              <p:cNvSpPr txBox="1"/>
              <p:nvPr/>
            </p:nvSpPr>
            <p:spPr>
              <a:xfrm>
                <a:off x="2519280" y="2365200"/>
                <a:ext cx="7153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!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Объект 8"/>
              <p:cNvSpPr txBox="1"/>
              <p:nvPr/>
            </p:nvSpPr>
            <p:spPr>
              <a:xfrm>
                <a:off x="3691080" y="3924360"/>
                <a:ext cx="5019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9"/>
              <p:cNvSpPr txBox="1"/>
              <p:nvPr/>
            </p:nvSpPr>
            <p:spPr>
              <a:xfrm>
                <a:off x="3554280" y="5167440"/>
                <a:ext cx="50817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полюс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люс поряд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стности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ростой полюс, 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6B6-682C-49AF-9F5F-D6B818DE3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Объект 5"/>
              <p:cNvSpPr txBox="1"/>
              <p:nvPr/>
            </p:nvSpPr>
            <p:spPr>
              <a:xfrm>
                <a:off x="3130560" y="2471760"/>
                <a:ext cx="5931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Объект 6"/>
              <p:cNvSpPr txBox="1"/>
              <p:nvPr/>
            </p:nvSpPr>
            <p:spPr>
              <a:xfrm>
                <a:off x="4119480" y="4584600"/>
                <a:ext cx="3952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простом полюс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ростой полюс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ви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аналитические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0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. Тогд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5C0-A36C-4B8E-9276-60E4F419A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Объект 4"/>
              <p:cNvSpPr txBox="1"/>
              <p:nvPr/>
            </p:nvSpPr>
            <p:spPr>
              <a:xfrm>
                <a:off x="1609560" y="4270320"/>
                <a:ext cx="89712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Объект 5"/>
              <p:cNvSpPr txBox="1"/>
              <p:nvPr/>
            </p:nvSpPr>
            <p:spPr>
              <a:xfrm>
                <a:off x="5170320" y="2268360"/>
                <a:ext cx="185112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простом полюс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2540-4552-41D1-AF94-25DEFD974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Объект 4"/>
              <p:cNvSpPr txBox="1"/>
              <p:nvPr/>
            </p:nvSpPr>
            <p:spPr>
              <a:xfrm>
                <a:off x="2133720" y="1870200"/>
                <a:ext cx="734040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f>
                          <m:num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ψ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5"/>
              <p:cNvSpPr txBox="1"/>
              <p:nvPr/>
            </p:nvSpPr>
            <p:spPr>
              <a:xfrm>
                <a:off x="4637160" y="4505400"/>
                <a:ext cx="2916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ψ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бесконеч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∞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полюсом, то для вычисления вычета в этой точке действуют те же формулы, что и для конечной изолированной особой т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∞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устранимой особой точкой, то вычет в этой точке можно вычислить по формул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00DB-7ECE-4059-A4FE-C602871AF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Объект 4"/>
          <p:cNvGraphicFramePr/>
          <p:nvPr/>
        </p:nvGraphicFramePr>
        <p:xfrm>
          <a:off x="3633840" y="4002120"/>
          <a:ext cx="49244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3840" y="4002120"/>
                    <a:ext cx="49244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Объект 5"/>
          <p:cNvGraphicFramePr/>
          <p:nvPr/>
        </p:nvGraphicFramePr>
        <p:xfrm>
          <a:off x="4950000" y="5089680"/>
          <a:ext cx="2290680" cy="68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5089680"/>
                    <a:ext cx="22906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игонометрически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комплексной замены можно вычислять действительные интегралы в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ациональная фун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замен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отрезо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0, 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йдет в окруж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z|=1, 0 ≤ arg z ≤ 2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86E6-064D-4D7D-AAC1-6D5FFDED2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Объект 4"/>
          <p:cNvGraphicFramePr/>
          <p:nvPr/>
        </p:nvGraphicFramePr>
        <p:xfrm>
          <a:off x="4589640" y="2673360"/>
          <a:ext cx="301284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9640" y="2673360"/>
                    <a:ext cx="30128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игонометрически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замены тригонометрических функций можно использовать формулы Эйл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я равен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лучае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 = i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8196-8A6D-4A6B-B891-70C58BB8C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Объект 4"/>
          <p:cNvGraphicFramePr/>
          <p:nvPr/>
        </p:nvGraphicFramePr>
        <p:xfrm>
          <a:off x="3035160" y="2719440"/>
          <a:ext cx="612144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5160" y="2719440"/>
                    <a:ext cx="61214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Объект 5"/>
          <p:cNvGraphicFramePr/>
          <p:nvPr/>
        </p:nvGraphicFramePr>
        <p:xfrm>
          <a:off x="5357880" y="4843440"/>
          <a:ext cx="14745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7880" y="4843440"/>
                    <a:ext cx="14745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игонометрически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замены мы получаем интеграл от комплексной функции по замкнутому контуру, который можно вычислить, используя, например, теорему о выче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еча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скольку изначально данный интеграл был действительным, ответ тоже должен быть действительным числом. Ответ, содержащий мнимую часть, заведомо является неправильны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D73-60A8-47A4-B3B2-A73E66889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обственны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замкнутый конту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являющийся замкнутой верхней полуокружностью радиу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центром в начале координ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контур можно разбить на отрезо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–R, R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уг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{|z| = R, Im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еличива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пределе получ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A90-6AD4-4A96-82A3-45D177D84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Объект 4"/>
          <p:cNvGraphicFramePr/>
          <p:nvPr/>
        </p:nvGraphicFramePr>
        <p:xfrm>
          <a:off x="3882960" y="3406680"/>
          <a:ext cx="442584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2960" y="3406680"/>
                    <a:ext cx="44258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Объект 5"/>
          <p:cNvGraphicFramePr/>
          <p:nvPr/>
        </p:nvGraphicFramePr>
        <p:xfrm>
          <a:off x="3570120" y="5078520"/>
          <a:ext cx="50515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0120" y="5078520"/>
                    <a:ext cx="50515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обственны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член степе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ногочлен степе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а на (–∞, ∞), т.е. многочле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имеет действительных кор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– n ≥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0FE-884D-4CE9-9D12-7C33C2C2A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Объект 4"/>
          <p:cNvGraphicFramePr/>
          <p:nvPr/>
        </p:nvGraphicFramePr>
        <p:xfrm>
          <a:off x="4981680" y="2309760"/>
          <a:ext cx="222876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2309760"/>
                    <a:ext cx="22287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Объект 5"/>
          <p:cNvGraphicFramePr/>
          <p:nvPr/>
        </p:nvGraphicFramePr>
        <p:xfrm>
          <a:off x="4776840" y="5522760"/>
          <a:ext cx="263664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5522760"/>
                    <a:ext cx="2636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095560"/>
            <a:ext cx="1051560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5. Вычет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FCCA-1483-4CD6-81B0-2A573C94D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обственны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ь верхнего полукруга, которую ограничивает конту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и увеличен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пределе образует всю верхнюю полуплоск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грал по замкнутому контуру можно вычислить, используя теорему о выче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A2E-725B-4EDA-9443-C7342E20E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Объект 4"/>
          <p:cNvGraphicFramePr/>
          <p:nvPr/>
        </p:nvGraphicFramePr>
        <p:xfrm>
          <a:off x="4621320" y="2185920"/>
          <a:ext cx="294948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2185920"/>
                    <a:ext cx="29494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обственны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многочле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 – n ≥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ые кор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5458-B224-4A49-9775-AECF712EB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Объект 4"/>
          <p:cNvGraphicFramePr/>
          <p:nvPr/>
        </p:nvGraphicFramePr>
        <p:xfrm>
          <a:off x="3444840" y="2746440"/>
          <a:ext cx="530244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2746440"/>
                    <a:ext cx="5302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обственны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огично, вместо верхней полуокружности можно рассмотреть нижнюю полуокружность. Тогда мы получим форму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2112-269A-4371-A8A5-05995BDBD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Объект 4"/>
          <p:cNvGraphicFramePr/>
          <p:nvPr/>
        </p:nvGraphicFramePr>
        <p:xfrm>
          <a:off x="3335400" y="2843280"/>
          <a:ext cx="552132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5400" y="2843280"/>
                    <a:ext cx="55213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обственны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тная функция, можно таким же образом вычислять несобственные интегралы в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69DC-0461-46C7-BC42-E5EB73EF3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Объект 4"/>
          <p:cNvGraphicFramePr/>
          <p:nvPr/>
        </p:nvGraphicFramePr>
        <p:xfrm>
          <a:off x="4448160" y="2843280"/>
          <a:ext cx="32940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8160" y="2843280"/>
                    <a:ext cx="32940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нятие выче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онечная изолированная особая точ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 окрестности этой точки функци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разложить в ряд Лора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ет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особой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коэффициент при –1 степени в этом разложении. Другими слов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62E-BB97-4961-B4B3-2C1320B21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5"/>
              <p:cNvSpPr txBox="1"/>
              <p:nvPr/>
            </p:nvSpPr>
            <p:spPr>
              <a:xfrm>
                <a:off x="4511520" y="2808360"/>
                <a:ext cx="31687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Объект 6"/>
              <p:cNvSpPr txBox="1"/>
              <p:nvPr/>
            </p:nvSpPr>
            <p:spPr>
              <a:xfrm>
                <a:off x="5029200" y="5076720"/>
                <a:ext cx="2133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бесконеч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есконечная изолированная особая точка функ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четом будет называться коэффициент при –1 степени в разложении в ряд Лорана в окрестности бесконечно удаленной точки, взятый с противоположным знак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B3EF-7F1B-4796-BBBF-EB6DDFA0E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Объект 4"/>
              <p:cNvSpPr txBox="1"/>
              <p:nvPr/>
            </p:nvSpPr>
            <p:spPr>
              <a:xfrm>
                <a:off x="4919760" y="3780000"/>
                <a:ext cx="23526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как интегра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вивалентное определение: вычет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золированной особой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интегр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роизвольный контур, принадлежащи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хватывающий ее. Обход контура положительный (т.е. против часовой стрелки для конечной особой точки и по часовой стрелке для бесконечно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4B9-83C1-4432-953E-E3F1BD9A2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Объект 4"/>
              <p:cNvSpPr txBox="1"/>
              <p:nvPr/>
            </p:nvSpPr>
            <p:spPr>
              <a:xfrm>
                <a:off x="5138640" y="2682720"/>
                <a:ext cx="191304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i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ая теорема о вычета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основная теорема о вычетах)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тическая в обла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а ее грани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 исключением конечного числа особых точе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ество особых точе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обла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ает нам еще один метод вычисления интегралов по замкнутому кон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1305-060D-46E0-AAE7-2437197E2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Объект 4"/>
              <p:cNvSpPr txBox="1"/>
              <p:nvPr/>
            </p:nvSpPr>
            <p:spPr>
              <a:xfrm>
                <a:off x="4214880" y="3059280"/>
                <a:ext cx="3762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общенная теорема о вычета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обобщенная теорема о вычетах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мма вычетов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 всех ее особых точках, включая бесконечно удаленную, равна ну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видно, ч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D0EA-993A-4601-8591-0121F13FE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Объект 4"/>
              <p:cNvSpPr txBox="1"/>
              <p:nvPr/>
            </p:nvSpPr>
            <p:spPr>
              <a:xfrm>
                <a:off x="4167360" y="3054240"/>
                <a:ext cx="38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5"/>
              <p:cNvSpPr txBox="1"/>
              <p:nvPr/>
            </p:nvSpPr>
            <p:spPr>
              <a:xfrm>
                <a:off x="4338720" y="4614840"/>
                <a:ext cx="3512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  <m:lim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устранимой особой точ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помним, что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устранимая особая точ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при разложении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яд Лорана в окрестности этой особой точки главная часть будет отсутств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тельно, вычет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устранимой особой точке равен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C9E4-F838-4B5E-9125-9A152F862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чет в полюс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помним, что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люс поряд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при разложении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z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яд Лорана в окрестности этой особой точки главная часть будет конечной, а имен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ножив обе части равенства н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–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888B-DC0B-4F3E-AAE3-6D1BA2884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Объект 4"/>
              <p:cNvSpPr txBox="1"/>
              <p:nvPr/>
            </p:nvSpPr>
            <p:spPr>
              <a:xfrm>
                <a:off x="4511520" y="3032280"/>
                <a:ext cx="316872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Объект 5"/>
              <p:cNvSpPr txBox="1"/>
              <p:nvPr/>
            </p:nvSpPr>
            <p:spPr>
              <a:xfrm>
                <a:off x="981000" y="4730760"/>
                <a:ext cx="10228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8-05-15T14:43:51Z</dcterms:modified>
  <cp:revision>327</cp:revision>
  <dc:subject/>
  <dc:title>Информатика</dc:title>
</cp:coreProperties>
</file>