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D2E-F0B0-4AB2-B9AA-15B1472D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82B-EBE9-488A-96C5-A204849F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0AC-840B-4116-9014-5F2B1165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05B-E6F6-486C-BFFC-9B50953A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459-0283-4412-951A-12A34BE2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777-4489-49CE-9DF5-80634343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6C8-91DC-4774-8518-A371ADF0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C2C-2DAF-4DCA-85FA-8B839793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71F-2B23-4FCC-95DE-E643792E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D05-0B00-4BF0-BF7A-77EE1E0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3C2-F61A-48E4-9359-1795DD5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C67-948D-4C91-96EA-929163BB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2DAA-3540-4107-9B45-B0D30A01A5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4B74-65EF-4E0B-B079-290E630F5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301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Теория функций комплексного переменного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зложение в ряд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рациональную функцию методом неопределенных коэффициентов нужно разложить на элементарные дроби ви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(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 констант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натуральное число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корни многочлен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особая точ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ится на внутренней границе кольца или во внутренней окружности, то для сходимости ряда разложение нужно осуществлять по отрицательным степен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особая точ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ится на внешней границе кольца или во внешней окружности, то для сходимости ряда разложение нужно осуществлять по положительным степен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2A78-4293-4ED2-835A-E8BC51B9F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зложение в ряд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случа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= 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.е. элементарную дробь ви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(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любого разложения знаменатель элементарной дроби необходимо представить в ви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(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(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ложения по положительным степеням необходимо в знаменателе вынести за скобку постоянну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8F6F-D2D5-48D9-9F02-1926AB961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Объект 5"/>
              <p:cNvSpPr txBox="1"/>
              <p:nvPr/>
            </p:nvSpPr>
            <p:spPr>
              <a:xfrm>
                <a:off x="3538440" y="4160880"/>
                <a:ext cx="5114880" cy="15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зложение в ряд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ив разложение в ряд Тейлора вида 1/(1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= 1 + x +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лучаем разложение по положительным степеням, сходящееся во внутренности внешней окружности коль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получим раз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29C2-3FEE-4EC5-8A48-ADC8CB399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Объект 5"/>
              <p:cNvSpPr txBox="1"/>
              <p:nvPr/>
            </p:nvSpPr>
            <p:spPr>
              <a:xfrm>
                <a:off x="4730760" y="3687840"/>
                <a:ext cx="27306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зложение в ряд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ложения по отрицательным степеням необходимо в знаменателе вынести за скобку переменну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ив разложение в ряд Тейлора вида 1/(1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= 1 + x +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лучаем разложение по отрицательным степеням, сходящееся во внешности внутренней окружности коль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F624-D557-4BE4-A7EC-F2593D6CC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Объект 5"/>
              <p:cNvSpPr txBox="1"/>
              <p:nvPr/>
            </p:nvSpPr>
            <p:spPr>
              <a:xfrm>
                <a:off x="3084480" y="2727360"/>
                <a:ext cx="602316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c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зложение в ряд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gt; 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обходимо помнить, ч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D8B2-187F-4D63-AEE4-C930CC140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4778280" y="2514600"/>
                <a:ext cx="2635200" cy="21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/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оэффициенты ряда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азложении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яд Лор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ль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&lt; |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эффициент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жно вычислить по форму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льный замкнутый контур, лежащий в кольце и охватывающий точк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9C6A-529A-456D-B7FB-3B58C27468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Объект 5"/>
              <p:cNvSpPr txBox="1"/>
              <p:nvPr/>
            </p:nvSpPr>
            <p:spPr>
              <a:xfrm>
                <a:off x="4511520" y="2340000"/>
                <a:ext cx="31687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Объект 5"/>
              <p:cNvSpPr txBox="1"/>
              <p:nvPr/>
            </p:nvSpPr>
            <p:spPr>
              <a:xfrm>
                <a:off x="4307040" y="3817800"/>
                <a:ext cx="35780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оэффициенты ряда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астности, в качестве контура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жно взять окружн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z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= max |f(z)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всем точк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окруж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z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коэффициенты ряда Лорана можно оцен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852E-FDBF-4313-83A7-BCB01E044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Объект 4"/>
              <p:cNvSpPr txBox="1"/>
              <p:nvPr/>
            </p:nvSpPr>
            <p:spPr>
              <a:xfrm>
                <a:off x="5373720" y="3789360"/>
                <a:ext cx="14428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золированная особая точ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ая точ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изолированной особой точкой, если существует такая окрестность этой точки, в которой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имеет других особых т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6115-DF70-4939-BC58-297A62A92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ущественно особая точ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20720" y="15555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Сохоцкого)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енно особая точ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для любого комплексного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ществует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{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ходящаяся 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акая, ч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Пикара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тическая в проколотой окрестности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ущественно особая точ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 эта функция принимает в этой окрестности любое значение кроме, быть может, од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726B-E3AF-4D55-A596-72908D9C0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Объект 5"/>
              <p:cNvSpPr txBox="1"/>
              <p:nvPr/>
            </p:nvSpPr>
            <p:spPr>
              <a:xfrm>
                <a:off x="5027760" y="2881440"/>
                <a:ext cx="2135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которые разлож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тическая в проколотой окрест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0 &lt; |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R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ей изолированной особой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ускает разложение в ряд Лорана в этой окрестности, и это разложение называется разложением в ряд Лорана в окрестности особой т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тическая в обла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 &lt; |z| &lt; ∞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ускает разложение в ряд Лорана по степеня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Это разложение называется разложением в ряд Лорана в окрестности бесконечно удаленной т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2BC7-1AEF-4D4C-B2A7-3D14387C4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яд Тейло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помним, что любую действительную функцию, дифференцируемую бесконечное число раз, можно представить в виде степенного ряда, который называется рядом Тейл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огичное утверждение верно и для комплекснозначной 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Тейлор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функция, аналитическая внутри круг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z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R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эта функция однозначно представляется в этом круге сходящимся степенным ряд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25C-4A16-4BEE-8164-AC857EE5D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Объект 5"/>
              <p:cNvSpPr txBox="1"/>
              <p:nvPr/>
            </p:nvSpPr>
            <p:spPr>
              <a:xfrm>
                <a:off x="4965840" y="5111640"/>
                <a:ext cx="2259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зложение в бесконеч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ожение в ряд Лорана в бесконечно удаленной точке имеет ви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здесь               – главная часть ряда, а               – правильн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73DC-9E4C-4A88-A123-F965541DE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Объект 4"/>
              <p:cNvSpPr txBox="1"/>
              <p:nvPr/>
            </p:nvSpPr>
            <p:spPr>
              <a:xfrm>
                <a:off x="4950000" y="2514600"/>
                <a:ext cx="2290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Объект 5"/>
              <p:cNvSpPr txBox="1"/>
              <p:nvPr/>
            </p:nvSpPr>
            <p:spPr>
              <a:xfrm>
                <a:off x="2500200" y="3468600"/>
                <a:ext cx="1255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Объект 6"/>
              <p:cNvSpPr txBox="1"/>
              <p:nvPr/>
            </p:nvSpPr>
            <p:spPr>
              <a:xfrm>
                <a:off x="7223040" y="3468600"/>
                <a:ext cx="10987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яд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м частным случаем функционального ряда является ряд по целым степен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Лора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функция, аналитическая в коль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&lt; |z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R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эта функция однозначно представляется в этом кольце сходящимся ряд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ой ряд называется рядом Лора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DF5E-B6FD-419B-B5DC-442C477D1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Объект 5"/>
              <p:cNvSpPr txBox="1"/>
              <p:nvPr/>
            </p:nvSpPr>
            <p:spPr>
              <a:xfrm>
                <a:off x="4933800" y="3881520"/>
                <a:ext cx="23227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асти ряда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яд Лорана можно представить в виде суммы двух ряд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D17A-0FA3-48E7-A81F-BEE53D34D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Объект 5"/>
              <p:cNvSpPr txBox="1"/>
              <p:nvPr/>
            </p:nvSpPr>
            <p:spPr>
              <a:xfrm>
                <a:off x="2360520" y="2305080"/>
                <a:ext cx="74707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Объект 5"/>
              <p:cNvSpPr txBox="1"/>
              <p:nvPr/>
            </p:nvSpPr>
            <p:spPr>
              <a:xfrm>
                <a:off x="3773520" y="3505320"/>
                <a:ext cx="464508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асти ряда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яд с неотрицательными степенями называется правильной частью ряда Лора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ряд с отрицательными степенями называется главной частью ряда Лора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теоремы Тейлора мы знаем, что правильная ча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ходится внутри круга некоторого радиу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пределения области сходимости главной части можно сделать замену перемен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2845-8FFA-4AE4-9E27-C077474A2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Объект 5"/>
              <p:cNvSpPr txBox="1"/>
              <p:nvPr/>
            </p:nvSpPr>
            <p:spPr>
              <a:xfrm>
                <a:off x="9269280" y="3316320"/>
                <a:ext cx="2197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6"/>
              <p:cNvSpPr txBox="1"/>
              <p:nvPr/>
            </p:nvSpPr>
            <p:spPr>
              <a:xfrm>
                <a:off x="5280120" y="5292720"/>
                <a:ext cx="16318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ζ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ласть сходимости ряда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аем обычный степенной ряд, который сходится внутри круга некоторого радиу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ит, область сходимо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|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z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gt; 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есть главная часть сходится во внешности круга некоторого радиу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BA9E-E6E7-4907-977C-046574BD36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Объект 4"/>
              <p:cNvSpPr txBox="1"/>
              <p:nvPr/>
            </p:nvSpPr>
            <p:spPr>
              <a:xfrm>
                <a:off x="2081160" y="1519200"/>
                <a:ext cx="35784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Объект 5"/>
              <p:cNvSpPr txBox="1"/>
              <p:nvPr/>
            </p:nvSpPr>
            <p:spPr>
              <a:xfrm>
                <a:off x="5421240" y="3801960"/>
                <a:ext cx="19764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ласть сходимости ряда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ается, что одна часть ряда сходится внутри некоторого круга, а другая часть – во внешности некоторого другого круга. Весь ряд будет сходится в пересечении этих обла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адиус первого круга больше радиуса второго, то область сходимости ряда Лорана существует и это кольц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&lt; |z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тивном случае ряд нигде не сход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6BB4-6F55-4175-9A6E-3574BC53D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астные случа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=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ьцо превращается в круг с выколотым центром.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ая точка, то разложение называется разложением в ряд Лорана в окрестности особой т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= ∞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ьцо превращается во внешность круг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z| &gt; 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Разложение в этом случае называется разложением в ряд Лорана в окрестности бесконечно удаленной т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E711-EC48-49B5-99C8-F113BF851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зложение в ряд Лора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20720" y="15555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устим, мы хотим получить разложение рациональ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= P(z) / Q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ряд Лорана в конечной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ль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&lt; |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ациональная функция представляет собой неправильную дробь (степень числителя не меньше степени знаменателя), то следует выделить целую часть и остаток в виде правильной дроб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431F-997D-4AB2-B2EF-055D3B284A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18-05-15T14:43:40Z</dcterms:modified>
  <cp:revision>290</cp:revision>
  <dc:subject/>
  <dc:title>Информатика</dc:title>
</cp:coreProperties>
</file>